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B3255-4694-4DD3-A31F-C41D1A012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520B2-7045-4067-9E73-C26A85BB7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012C2-C5F3-4A11-8103-69564079F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3DC84-B6B3-42AB-99E0-F4024EA43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1D163-7655-4F5A-A489-937C31BFC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F34E1-AFE6-4961-B218-8AF83F060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2358C-EFC4-492F-A296-C072B8CFE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A1F0E-9F58-4C4C-BB1E-F275ABBA1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AE5D5-06B9-4371-8088-0C9521BE5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14BE8-6793-4868-B8A6-F59A75A97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1A6FF-8074-400E-B749-4FD9B2E42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870D7-C475-4225-95D3-E275EF02B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D7093-981D-4C2F-A241-419E04C69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A852B-BA9E-47CF-B78F-EA950DD8A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D9972-763A-4D90-A7F1-20640957B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0A376-31C6-4241-864B-D297541E2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0AC99-0A73-4DD3-84EA-FE589ED21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A0256-46C9-4A18-B095-CEB15BE29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2A750-6E76-4947-84BB-5BAFB6C07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2D543-4818-4D32-8C67-7245DFB96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B78E0-0E32-421A-9C2A-9B312BD10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364CD-3444-428D-83D6-3DC750F10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9FBE9-B591-4758-987C-2F8947758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5B087-A504-493A-A2A9-668480370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9109-5C15-4988-8CC3-91E3BD6ACC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1447920"/>
            <a:ext cx="8381880" cy="304560"/>
            <a:chOff x="0" y="1447920"/>
            <a:chExt cx="8381880" cy="304560"/>
          </a:xfrm>
        </p:grpSpPr>
        <p:sp>
          <p:nvSpPr>
            <p:cNvPr id="6" name=""/>
            <p:cNvSpPr/>
            <p:nvPr/>
          </p:nvSpPr>
          <p:spPr>
            <a:xfrm>
              <a:off x="0" y="1447920"/>
              <a:ext cx="8381880" cy="30456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3624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49719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55436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0674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651528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69343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201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0584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8771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8086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248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2350-EF66-477C-977B-A36E9A6AD7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8" name=""/>
          <p:cNvGrpSpPr/>
          <p:nvPr/>
        </p:nvGrpSpPr>
        <p:grpSpPr>
          <a:xfrm>
            <a:off x="0" y="2895480"/>
            <a:ext cx="8381880" cy="304920"/>
            <a:chOff x="0" y="2895480"/>
            <a:chExt cx="8381880" cy="304920"/>
          </a:xfrm>
        </p:grpSpPr>
        <p:sp>
          <p:nvSpPr>
            <p:cNvPr id="59" name=""/>
            <p:cNvSpPr/>
            <p:nvPr/>
          </p:nvSpPr>
          <p:spPr>
            <a:xfrm>
              <a:off x="0" y="2895480"/>
              <a:ext cx="8381880" cy="304920"/>
            </a:xfrm>
            <a:prstGeom prst="rect">
              <a:avLst/>
            </a:prstGeom>
            <a:gradFill rotWithShape="0">
              <a:gsLst>
                <a:gs pos="0">
                  <a:srgbClr val="ffffff"/>
                </a:gs>
                <a:gs pos="100000">
                  <a:srgbClr val="ff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43624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49719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55436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0674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651528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69343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76201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730584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78771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8086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8248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009 Symposium Group Presentation</a:t>
            </a:r>
            <a:endParaRPr b="0" lang="en-US" sz="4000" spc="-1" strike="noStrike">
              <a:solidFill>
                <a:srgbClr val="ffffff"/>
              </a:solidFill>
              <a:latin typeface="Times New Roman"/>
            </a:endParaRPr>
          </a:p>
        </p:txBody>
      </p:sp>
      <p:sp>
        <p:nvSpPr>
          <p:cNvPr id="109" name="PlaceHolder 2"/>
          <p:cNvSpPr>
            <a:spLocks noGrp="1"/>
          </p:cNvSpPr>
          <p:nvPr>
            <p:ph type="subTitle"/>
          </p:nvPr>
        </p:nvSpPr>
        <p:spPr>
          <a:xfrm>
            <a:off x="837720" y="3886200"/>
            <a:ext cx="769644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orge Azar, Matt Bartek, Carrie Bidwell, Karen Delle Donne, Jeff Meinha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ioEYES Evaluation</a:t>
            </a:r>
            <a:br>
              <a:rPr sz="4000"/>
            </a:br>
            <a:r>
              <a:rPr b="0" lang="en-US" sz="4000" spc="-1" strike="noStrike">
                <a:solidFill>
                  <a:srgbClr val="ffffff"/>
                </a:solidFill>
                <a:latin typeface="Times New Roman"/>
              </a:rPr>
              <a:t>Secondary Level</a:t>
            </a:r>
            <a:endParaRPr b="0" lang="en-US" sz="4000" spc="-1" strike="noStrike">
              <a:solidFill>
                <a:srgbClr val="ffffff"/>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s aspect seems to be very simple and basic</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what limited</a:t>
            </a:r>
            <a:endParaRPr b="0" lang="en-US" sz="2000" spc="-1" strike="noStrike">
              <a:solidFill>
                <a:srgbClr val="ffffff"/>
              </a:solidFill>
              <a:latin typeface="Times New Roman"/>
            </a:endParaRPr>
          </a:p>
          <a:p>
            <a:pPr marL="339480" indent="-339480">
              <a:lnSpc>
                <a:spcPct val="80000"/>
              </a:lnSpc>
              <a:spcBef>
                <a:spcPts val="601"/>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secondary level we would like to take this program to the next level</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 topics to consider:</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bryology</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roductive Development (external fertiliz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olu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pulation</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m Cell</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tation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istic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 life science (collaboration)</a:t>
            </a:r>
            <a:endParaRPr b="0" lang="en-US" sz="2000" spc="-1" strike="noStrike">
              <a:solidFill>
                <a:srgbClr val="ffffff"/>
              </a:solidFill>
              <a:latin typeface="Times New Roman"/>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oEYES Enthusiasm</a:t>
            </a: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gram brings a lot with it. Persons at any age or level are enamored with the process of reproduction and development of live specime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4" name="" descr=""/>
          <p:cNvPicPr/>
          <p:nvPr/>
        </p:nvPicPr>
        <p:blipFill>
          <a:blip r:embed="rId1"/>
          <a:stretch/>
        </p:blipFill>
        <p:spPr>
          <a:xfrm>
            <a:off x="4952880" y="3886200"/>
            <a:ext cx="3581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4"/>
                    </p:tgtEl>
                  </p:cond>
                </p:stCondLst>
                <p:childTnLst>
                  <p:par>
                    <p:cTn id="3" fill="hold">
                      <p:stCondLst>
                        <p:cond evt="onClick">
                          <p:tgtEl>
                            <p:spTgt spid="11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dern Lab Reflection</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aging activity, enjoyable to be back in the lab where anything can happen.</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ing real science, real time in the lab</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dern lab has evolved great efficiency from the good ole’ day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 The next Rosalind Franklin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graduated college at age 1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ILL</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447920" y="1828800"/>
            <a:ext cx="6248160" cy="468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odern Biology Lab</a:t>
            </a:r>
            <a:br>
              <a:rPr sz="4000"/>
            </a:br>
            <a:r>
              <a:rPr b="0" lang="en-US" sz="4000" spc="-1" strike="noStrike">
                <a:solidFill>
                  <a:srgbClr val="ffffff"/>
                </a:solidFill>
                <a:latin typeface="Times New Roman"/>
              </a:rPr>
              <a:t>Evaluation</a:t>
            </a:r>
            <a:endParaRPr b="0" lang="en-US" sz="4000" spc="-1" strike="noStrike">
              <a:solidFill>
                <a:srgbClr val="ff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bs were detailed and engaging. Due to the fact that there are teachers from all levels, maybe starting with a big picture idea and then looking at key parts would have been helpful.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rt explanation of labs at an elementary level and get everyone on the same page. Then, take it to wherever the audience will let you. Make sure we all start at the same spot. </a:t>
            </a:r>
            <a:endParaRPr b="0" lang="en-US" sz="2800" spc="-1" strike="noStrike">
              <a:solidFill>
                <a:srgbClr val="ffffff"/>
              </a:solidFill>
              <a:latin typeface="Times New Roman"/>
            </a:endParaRPr>
          </a:p>
          <a:p>
            <a:pPr marL="343080" indent="-343080">
              <a:lnSpc>
                <a:spcPct val="80000"/>
              </a:lnSpc>
              <a:spcBef>
                <a:spcPts val="700"/>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lab walk through/demonstration</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nation of each step and what and why things are being d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dagogy</a:t>
            </a:r>
            <a:endParaRPr b="0" lang="en-US" sz="4400" spc="-1" strike="noStrike">
              <a:solidFill>
                <a:srgbClr val="ffffff"/>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ject can be used in many different ways in many different settings!! Amazing.</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y helpful to hear what works and what doesn’t, love the advice and suggestions.</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at to see it at different levels. This is the proof that it wo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urs Evaluation</a:t>
            </a:r>
            <a:endParaRPr b="0" lang="en-US" sz="4400" spc="-1" strike="noStrike">
              <a:solidFill>
                <a:srgbClr val="ffffff"/>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was wonderful and eye opening to see what goes on here at ND. Awesome!!!</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 no idea that they were doing so much. People were very friendly and incredibly knowledgeable. </a:t>
            </a:r>
            <a:endParaRPr b="0" lang="en-US" sz="3200" spc="-1" strike="noStrike">
              <a:solidFill>
                <a:srgbClr val="ffffff"/>
              </a:solidFill>
              <a:latin typeface="Times New Roman"/>
            </a:endParaRPr>
          </a:p>
          <a:p>
            <a:pPr marL="343080" indent="-3430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esting to see how this info would be used and what people are do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ecial Thanks To…</a:t>
            </a:r>
            <a:endParaRPr b="0" lang="en-US" sz="4400" spc="-1" strike="noStrike">
              <a:solidFill>
                <a:srgbClr val="ffffff"/>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ta Beebe</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Mooney</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ily Zablocki</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Dzurisin</a:t>
            </a: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cqueline Anzaldo</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003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RO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29:05Z</dcterms:created>
  <dc:creator>George Azar</dc:creator>
  <dc:description/>
  <dc:language>en-US</dc:language>
  <cp:lastModifiedBy>George Azar</cp:lastModifiedBy>
  <dcterms:modified xsi:type="dcterms:W3CDTF">2009-06-25T17:41:32Z</dcterms:modified>
  <cp:revision>6</cp:revision>
  <dc:subject/>
  <dc:title>2009 Symposium Group Presentation</dc:title>
</cp:coreProperties>
</file>