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C2238-14E7-4A06-8F9E-933C71DB2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15C82-65FF-4597-A16C-34D2FE9C9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F995D-0C86-49B2-A5F8-64AE896B6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7DEAD-57A5-45DC-B25D-1F21D448C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FE606-0A44-4D6C-9CE4-2894C20DD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54B55-08EC-49E4-9099-6DA38753A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03BB4-E215-437C-A371-BE17F366D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CE17D-203D-4704-821F-9BBB78440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6AEAC-2573-4742-826E-844E574F9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C4A67-0EAE-4B1B-BCE7-0BA799C14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6F275-1FA5-4755-A42F-A1CB4B31D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871F7-73C9-4414-AD2D-87B6BFB35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C20A3-0271-4A4B-AD8C-E599F84A2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DAA36-60CC-4F60-9BD8-DD0C6211C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3D6F7-765B-45E6-BB5F-AD2200DC2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87011-A13C-4BB5-A54D-BA58877AD1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BF677-1CB8-43E9-B626-BE7CE9B01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689D-112E-46CE-BF86-14D33070F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EBD5F-1B80-4934-AC58-F7214F393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B5B18-5DCB-4EEE-9F36-9FE2408E1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1BEA4-B48A-420D-A134-26708D413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131D0-7F6A-40F3-AA7A-72D083A42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78E7-0278-4BB8-8E17-E107736EE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EA19D-3B02-4AAD-B053-ABE88FA86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79A8-D1F8-4303-AD3F-AEDCE5BBCA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1447920"/>
            <a:ext cx="8381880" cy="304560"/>
            <a:chOff x="0" y="1447920"/>
            <a:chExt cx="8381880" cy="304560"/>
          </a:xfrm>
        </p:grpSpPr>
        <p:sp>
          <p:nvSpPr>
            <p:cNvPr id="6" name=""/>
            <p:cNvSpPr/>
            <p:nvPr/>
          </p:nvSpPr>
          <p:spPr>
            <a:xfrm>
              <a:off x="0" y="1447920"/>
              <a:ext cx="8381880" cy="30456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CA06-6BCE-4574-BC42-7C40B2B9EF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8" name=""/>
          <p:cNvGrpSpPr/>
          <p:nvPr/>
        </p:nvGrpSpPr>
        <p:grpSpPr>
          <a:xfrm>
            <a:off x="0" y="2895480"/>
            <a:ext cx="8381880" cy="304920"/>
            <a:chOff x="0" y="2895480"/>
            <a:chExt cx="8381880" cy="304920"/>
          </a:xfrm>
        </p:grpSpPr>
        <p:sp>
          <p:nvSpPr>
            <p:cNvPr id="59" name=""/>
            <p:cNvSpPr/>
            <p:nvPr/>
          </p:nvSpPr>
          <p:spPr>
            <a:xfrm>
              <a:off x="0" y="2895480"/>
              <a:ext cx="8381880" cy="30492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009 Symposium Group Presentation</a:t>
            </a:r>
            <a:endParaRPr b="0" lang="en-US" sz="4000" spc="-1" strike="noStrike">
              <a:solidFill>
                <a:srgbClr val="ffffff"/>
              </a:solidFill>
              <a:latin typeface="Times New Roman"/>
            </a:endParaRPr>
          </a:p>
        </p:txBody>
      </p:sp>
      <p:sp>
        <p:nvSpPr>
          <p:cNvPr id="109" name="PlaceHolder 2"/>
          <p:cNvSpPr>
            <a:spLocks noGrp="1"/>
          </p:cNvSpPr>
          <p:nvPr>
            <p:ph type="subTitle"/>
          </p:nvPr>
        </p:nvSpPr>
        <p:spPr>
          <a:xfrm>
            <a:off x="837720" y="3886200"/>
            <a:ext cx="769644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rge Azar, Matt Bartek, Carrie Bidwell, Karen Delle Donne, Jeff Meinh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ioEYES Evaluation</a:t>
            </a:r>
            <a:br>
              <a:rPr sz="4000"/>
            </a:br>
            <a:r>
              <a:rPr b="0" lang="en-US" sz="4000" spc="-1" strike="noStrike">
                <a:solidFill>
                  <a:srgbClr val="ffffff"/>
                </a:solidFill>
                <a:latin typeface="Times New Roman"/>
              </a:rPr>
              <a:t>Secondary Level</a:t>
            </a:r>
            <a:endParaRPr b="0" lang="en-US" sz="40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s aspect seems to be very simple and basic</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what limited</a:t>
            </a:r>
            <a:endParaRPr b="0" lang="en-US" sz="2000" spc="-1" strike="noStrike">
              <a:solidFill>
                <a:srgbClr val="ffffff"/>
              </a:solidFill>
              <a:latin typeface="Times New Roman"/>
            </a:endParaRPr>
          </a:p>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secondary level we would like to take this program to the next level</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topics to consider:</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bryology</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roductive Development (external fertiliz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olu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m Cell</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tation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stic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 life science (collaboration)</a:t>
            </a:r>
            <a:endParaRPr b="0" lang="en-US" sz="2000" spc="-1" strike="noStrike">
              <a:solidFill>
                <a:srgbClr val="ffffff"/>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oEYES Enthusiasm</a:t>
            </a: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gram brings a lot with it. Persons at any age or level are enamored with the process of reproduction and development of live specime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4" name="" descr=""/>
          <p:cNvPicPr/>
          <p:nvPr/>
        </p:nvPicPr>
        <p:blipFill>
          <a:blip r:embed="rId1"/>
          <a:stretch/>
        </p:blipFill>
        <p:spPr>
          <a:xfrm>
            <a:off x="4952880" y="3886200"/>
            <a:ext cx="3581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dern Lab Reflection</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aging activity, enjoyable to be back in the lab where anything can happen.</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real science, real time in the lab</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dern lab has evolved great efficiency from the good ole’ day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 The next Rosalind Franklin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graduated college at age 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ILL</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447920" y="1828800"/>
            <a:ext cx="6248160" cy="468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dern Biology Lab</a:t>
            </a:r>
            <a:br>
              <a:rPr sz="4000"/>
            </a:br>
            <a:r>
              <a:rPr b="0" lang="en-US" sz="4000" spc="-1" strike="noStrike">
                <a:solidFill>
                  <a:srgbClr val="ffffff"/>
                </a:solidFill>
                <a:latin typeface="Times New Roman"/>
              </a:rPr>
              <a:t>Evaluation</a:t>
            </a:r>
            <a:endParaRPr b="0" lang="en-US" sz="40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bs were detailed and engaging. Due to the fact that there are teachers from all levels, maybe starting with a big picture idea and then looking at key parts would have been helpful.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explanation of labs at an elementary level and get everyone on the same page. Then, take it to wherever the audience will let you. Make sure we all start at the same spot.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lab walk through/demonstration</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nation of each step and what and why things are being d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dagogy</a:t>
            </a:r>
            <a:endParaRPr b="0" lang="en-US" sz="4400" spc="-1" strike="noStrike">
              <a:solidFill>
                <a:srgbClr val="ffffff"/>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ject can be used in many different ways in many different settings!! Amazing.</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y helpful to hear what works and what doesn’t, love the advice and suggestion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at to see it at different levels. This is the proof that it wo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urs Evaluation</a:t>
            </a:r>
            <a:endParaRPr b="0" lang="en-US" sz="4400" spc="-1" strike="noStrike">
              <a:solidFill>
                <a:srgbClr val="ffffff"/>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wonderful and eye opening to see what goes on here at ND. Awesome!!!</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 no idea that they were doing so much. People were very friendly and incredibly knowledgeable.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esting to see how this info would be used and what people are do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ecial Thanks To…</a:t>
            </a:r>
            <a:endParaRPr b="0" lang="en-US" sz="4400" spc="-1" strike="noStrike">
              <a:solidFill>
                <a:srgbClr val="ffffff"/>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ta Beebe</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Mooney</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ly Zablocki</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Dzurisin</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cqueline Anzaldo</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RO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29:05Z</dcterms:created>
  <dc:creator>George Azar</dc:creator>
  <dc:description/>
  <dc:language>en-US</dc:language>
  <cp:lastModifiedBy>George Azar</cp:lastModifiedBy>
  <dcterms:modified xsi:type="dcterms:W3CDTF">2009-06-25T17:41:32Z</dcterms:modified>
  <cp:revision>6</cp:revision>
  <dc:subject/>
  <dc:title>2009 Symposium Group Presentation</dc:title>
</cp:coreProperties>
</file>