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07340-20A3-445E-AF15-5F094654C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37F47-112F-462B-8810-37DC1F564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13E94-6D43-49C2-AF7A-38A619529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CEA5F-303A-4DA7-B112-B9B561B3E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66FDD-883A-4B57-897C-2D000DC48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FB2D1-B799-4E8B-B664-61357FDE8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CB057-28E9-4037-ABA8-53D519928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0358E-E3D5-4067-A8A8-3EBBEB216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29816-54C7-46D4-B1CF-5886839C6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6380E-5D26-45FF-8B94-E15A3F639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70DD1-02A3-42E7-9E86-2A69DC29E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8D92F-9E30-4898-AA68-EF50FA2A5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85B20-7579-4540-B4F1-FFF28988CF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EYES Institu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Jordan Hall of Sci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University of Notre Da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June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" descr="Streaking.jpg"/>
          <p:cNvPicPr/>
          <p:nvPr/>
        </p:nvPicPr>
        <p:blipFill>
          <a:blip r:embed="rId1"/>
          <a:stretch/>
        </p:blipFill>
        <p:spPr>
          <a:xfrm>
            <a:off x="0" y="539640"/>
            <a:ext cx="9144000" cy="57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" descr="Teamwork.jpg"/>
          <p:cNvPicPr/>
          <p:nvPr/>
        </p:nvPicPr>
        <p:blipFill>
          <a:blip r:embed="rId1"/>
          <a:stretch/>
        </p:blipFill>
        <p:spPr>
          <a:xfrm>
            <a:off x="0" y="896760"/>
            <a:ext cx="9144000" cy="50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Busy_fishing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Gelin'_James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Harvesting_zebrafish.jpg"/>
          <p:cNvPicPr/>
          <p:nvPr/>
        </p:nvPicPr>
        <p:blipFill>
          <a:blip r:embed="rId1"/>
          <a:stretch/>
        </p:blipFill>
        <p:spPr>
          <a:xfrm>
            <a:off x="0" y="682560"/>
            <a:ext cx="9144000" cy="54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" descr="june2008_044.JPG"/>
          <p:cNvPicPr/>
          <p:nvPr/>
        </p:nvPicPr>
        <p:blipFill>
          <a:blip r:embed="rId1"/>
          <a:stretch/>
        </p:blipFill>
        <p:spPr>
          <a:xfrm>
            <a:off x="0" y="685800"/>
            <a:ext cx="91440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" descr="june2008_045.JPG"/>
          <p:cNvPicPr/>
          <p:nvPr/>
        </p:nvPicPr>
        <p:blipFill>
          <a:blip r:embed="rId1"/>
          <a:stretch/>
        </p:blipFill>
        <p:spPr>
          <a:xfrm>
            <a:off x="0" y="900000"/>
            <a:ext cx="914400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june2008_04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june2008_050.JPG"/>
          <p:cNvPicPr/>
          <p:nvPr/>
        </p:nvPicPr>
        <p:blipFill>
          <a:blip r:embed="rId1"/>
          <a:stretch/>
        </p:blipFill>
        <p:spPr>
          <a:xfrm>
            <a:off x="2004840" y="0"/>
            <a:ext cx="5134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Preparing_for_Presentations.jpg"/>
          <p:cNvPicPr/>
          <p:nvPr/>
        </p:nvPicPr>
        <p:blipFill>
          <a:blip r:embed="rId1"/>
          <a:stretch/>
        </p:blipFill>
        <p:spPr>
          <a:xfrm>
            <a:off x="200016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5T02:35:24Z</dcterms:created>
  <dc:creator>User</dc:creator>
  <dc:description/>
  <dc:language>en-US</dc:language>
  <cp:lastModifiedBy>User</cp:lastModifiedBy>
  <dcterms:modified xsi:type="dcterms:W3CDTF">2008-06-25T02:38:32Z</dcterms:modified>
  <cp:revision>1</cp:revision>
  <dc:subject/>
  <dc:title>BioEYES Institute</dc:title>
</cp:coreProperties>
</file>