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B7FD-C29D-47CE-9394-A0419B755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5263-3B96-49A7-9B01-9250EA5F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0525-F58A-462B-B765-CFE4706EC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8520-7602-40B3-A981-18BD93349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453C-5885-4453-9959-E63A3A7E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9B78-C491-4D9B-9894-46B748E5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A79E-BF11-45CC-B49C-2AFDBB1D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C5F2-ECD7-4610-B3BF-F8F2B8E2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E101-EF15-4CE0-82B7-65441F8B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B8C5-4055-43A5-830F-90C9E732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7E8B-0D95-42D1-8378-EDEE5CCE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AD57-4A12-45BD-88A6-E42DF1BB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11CF-07F2-4B09-A831-EFC08D2B7D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EYES Instit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ordan Hall of Sci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niversity of Notre D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une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Streaking.jpg"/>
          <p:cNvPicPr/>
          <p:nvPr/>
        </p:nvPicPr>
        <p:blipFill>
          <a:blip r:embed="rId1"/>
          <a:stretch/>
        </p:blipFill>
        <p:spPr>
          <a:xfrm>
            <a:off x="0" y="539640"/>
            <a:ext cx="914400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Teamwork.jpg"/>
          <p:cNvPicPr/>
          <p:nvPr/>
        </p:nvPicPr>
        <p:blipFill>
          <a:blip r:embed="rId1"/>
          <a:stretch/>
        </p:blipFill>
        <p:spPr>
          <a:xfrm>
            <a:off x="0" y="896760"/>
            <a:ext cx="914400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Busy_fishin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Gelin'_Jam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Harvesting_zebrafish.jpg"/>
          <p:cNvPicPr/>
          <p:nvPr/>
        </p:nvPicPr>
        <p:blipFill>
          <a:blip r:embed="rId1"/>
          <a:stretch/>
        </p:blipFill>
        <p:spPr>
          <a:xfrm>
            <a:off x="0" y="682560"/>
            <a:ext cx="9144000" cy="54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june2008_044.JPG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june2008_045.JPG"/>
          <p:cNvPicPr/>
          <p:nvPr/>
        </p:nvPicPr>
        <p:blipFill>
          <a:blip r:embed="rId1"/>
          <a:stretch/>
        </p:blipFill>
        <p:spPr>
          <a:xfrm>
            <a:off x="0" y="900000"/>
            <a:ext cx="914400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june2008_0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june2008_050.JPG"/>
          <p:cNvPicPr/>
          <p:nvPr/>
        </p:nvPicPr>
        <p:blipFill>
          <a:blip r:embed="rId1"/>
          <a:stretch/>
        </p:blipFill>
        <p:spPr>
          <a:xfrm>
            <a:off x="2004840" y="0"/>
            <a:ext cx="513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Preparing_for_Presentations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5T02:35:24Z</dcterms:created>
  <dc:creator>User</dc:creator>
  <dc:description/>
  <dc:language>en-US</dc:language>
  <cp:lastModifiedBy>User</cp:lastModifiedBy>
  <dcterms:modified xsi:type="dcterms:W3CDTF">2008-06-25T02:38:32Z</dcterms:modified>
  <cp:revision>1</cp:revision>
  <dc:subject/>
  <dc:title>BioEYES Institute</dc:title>
</cp:coreProperties>
</file>