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EAC-F3C5-4FC6-A431-BDA01B6D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D50-F652-4222-AF10-5573ED92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35F-296A-4B61-99F8-740E25B4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C94-D072-4E2F-9E27-991102CC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C4C-C7BB-4A80-8C25-61BCF01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929-F820-4816-9CFD-4B9A491B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CA2-CD82-4136-B17A-12A0335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0DC-2ADC-418E-A7E1-9FBC8C2F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6F0-4F72-4E1C-8FF9-82B960A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5A4-AF88-4282-BA4F-DC59125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72B-5E4E-405A-8F3C-6FD80EB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D7D-AB67-4A9E-B9E9-18E551F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398-06A4-4F1A-8DC9-15ED9E4E5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YES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rdan Hall of Sci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Notre D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reaking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amwork.jpg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usy_fis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Gelin'_Jam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rvesting_zebrafish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june2008_044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june2008_045.JP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june2008_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une2008_050.JPG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reparing_for_Presentations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2:35:24Z</dcterms:created>
  <dc:creator>User</dc:creator>
  <dc:description/>
  <dc:language>en-US</dc:language>
  <cp:lastModifiedBy>User</cp:lastModifiedBy>
  <dcterms:modified xsi:type="dcterms:W3CDTF">2008-06-25T02:38:32Z</dcterms:modified>
  <cp:revision>1</cp:revision>
  <dc:subject/>
  <dc:title>BioEYES Institute</dc:title>
</cp:coreProperties>
</file>