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AAE-1C5D-4A3C-90FF-C8FBE53C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239-496B-423F-A45C-7FF86695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7A7-5BB1-4277-A9AA-1234164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0B0-F11A-45FB-A7B4-9DE45FCA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D0E-6E88-413B-8958-E17FAA6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820-5EEF-4560-AD63-56FC244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4AD-755F-43E2-818B-3788523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071-7DB4-437D-98D6-6D8E8FD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8A1-0A7C-4606-A360-F6ACFDB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A96-E427-490C-BD73-771B7DF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98D-3A2B-44E9-B77C-EEB54F0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FA8-3C3C-4E9D-9839-721738D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0C8-1572-423F-8F53-BAF5E6178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YES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rdan Hall of Sci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Notre D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reaking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amwork.jpg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usy_fis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elin'_Jam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rvesting_zebrafish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june2008_044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june2008_045.JP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june2008_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une2008_050.JPG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reparing_for_Presentations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2:35:24Z</dcterms:created>
  <dc:creator>User</dc:creator>
  <dc:description/>
  <dc:language>en-US</dc:language>
  <cp:lastModifiedBy>User</cp:lastModifiedBy>
  <dcterms:modified xsi:type="dcterms:W3CDTF">2008-06-25T02:38:32Z</dcterms:modified>
  <cp:revision>1</cp:revision>
  <dc:subject/>
  <dc:title>BioEYES Institute</dc:title>
</cp:coreProperties>
</file>