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62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62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w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rnal fertilization v. internal (gonopodium and genital pore) 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layers, mouth bro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62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brafish Embryo Circulation, zfish heart, 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 Embryonic Development-Vivaldi-Lautunno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2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d an additional 800 students outside of the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460760" y="0"/>
            <a:ext cx="341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460760" y="8686800"/>
            <a:ext cx="341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8686800"/>
            <a:ext cx="341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341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062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062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ard Medical School's Leonard Zon and his laboratory use the zebrafish as a model system for understanding vertebrate blood stem cells. Zebrafish have disorders resembling human disease. president of the International Society for Stem Cell Research </a:t>
            </a:r>
            <a:r>
              <a:rPr b="1" lang="en-US" sz="1200" spc="-1" strike="noStrike">
                <a:solidFill>
                  <a:srgbClr val="000000"/>
                </a:solidFill>
                <a:latin typeface="Skia"/>
              </a:rPr>
              <a:t>Developments in the field of genetics have brought society’s attention to the plethora of ways that biological research impacts our lives.</a:t>
            </a:r>
            <a:r>
              <a:rPr b="0" lang="en-US" sz="1200" spc="-1" strike="noStrike">
                <a:solidFill>
                  <a:srgbClr val="000000"/>
                </a:solidFill>
                <a:latin typeface="Sk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kia"/>
              </a:rPr>
              <a:t>Fin regeneration and visual sensitivity, even some olfactory work earlier on…at university of notre d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2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nomics.com/technology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bcps.org/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바탕"/>
                <a:ea typeface="바탕"/>
              </a:rPr>
              <a:t>Project BioEY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Professional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University of Notre D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Danielle Kearns-Sixsm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eek ahead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666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One:       Form a team and go fishing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6" descr="Billboar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5029200"/>
            <a:ext cx="8001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4191120" y="3722760"/>
            <a:ext cx="4114800" cy="1763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99240" y="175248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kia"/>
              </a:rPr>
              <a:t>male and female 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kia"/>
              </a:rPr>
              <a:t>wildtype 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87" name="Picture 2" descr="http://www.petfish.net/articles/pics/ZEBRAS~1-iC.jpg"/>
          <p:cNvPicPr/>
          <p:nvPr/>
        </p:nvPicPr>
        <p:blipFill>
          <a:blip r:embed="rId2"/>
          <a:stretch/>
        </p:blipFill>
        <p:spPr>
          <a:xfrm>
            <a:off x="304920" y="1219320"/>
            <a:ext cx="5454360" cy="1981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569960" y="426708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kia"/>
              </a:rPr>
              <a:t>female 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kia"/>
              </a:rPr>
              <a:t>albino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y Tw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delivery.superstock.com/WI/223/1560/PreviewComp/SuperStock_1560R-2053775.jpg"/>
          <p:cNvPicPr/>
          <p:nvPr/>
        </p:nvPicPr>
        <p:blipFill>
          <a:blip r:embed="rId1"/>
          <a:stretch/>
        </p:blipFill>
        <p:spPr>
          <a:xfrm>
            <a:off x="990720" y="2362320"/>
            <a:ext cx="2361960" cy="3333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343400" y="2666880"/>
            <a:ext cx="403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Batang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Harvest</a:t>
            </a:r>
            <a:endParaRPr b="0" lang="en-US" sz="3200" spc="-1" strike="noStrike">
              <a:solidFill>
                <a:srgbClr val="ffffff"/>
              </a:solidFill>
              <a:latin typeface="Geneva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Batang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Clean</a:t>
            </a:r>
            <a:endParaRPr b="0" lang="en-US" sz="3200" spc="-1" strike="noStrike">
              <a:solidFill>
                <a:srgbClr val="ffffff"/>
              </a:solidFill>
              <a:latin typeface="Geneva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Batang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Count</a:t>
            </a:r>
            <a:endParaRPr b="0" lang="en-US" sz="3200" spc="-1" strike="noStrike">
              <a:solidFill>
                <a:srgbClr val="ffffff"/>
              </a:solidFill>
              <a:latin typeface="Geneva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Batang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Observe</a:t>
            </a:r>
            <a:endParaRPr b="0" lang="en-US" sz="3200" spc="-1" strike="noStrike">
              <a:solidFill>
                <a:srgbClr val="ffffff"/>
              </a:solidFill>
              <a:latin typeface="Geneva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Batang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Record</a:t>
            </a:r>
            <a:endParaRPr b="0" lang="en-US" sz="32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rv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6680" y="3733560"/>
            <a:ext cx="41148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gs v. Embry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http://www.azumafoods.com/products/product_images/txtImage15728b37d6bb8d90ae414d8376a7df8ee1200688934.jpg"/>
          <p:cNvPicPr/>
          <p:nvPr/>
        </p:nvPicPr>
        <p:blipFill>
          <a:blip r:embed="rId1"/>
          <a:stretch/>
        </p:blipFill>
        <p:spPr>
          <a:xfrm>
            <a:off x="5410080" y="4141800"/>
            <a:ext cx="2971800" cy="213516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029200" y="1981080"/>
            <a:ext cx="36576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neva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Gene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nev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Fertilization</a:t>
            </a:r>
            <a:endParaRPr b="0" lang="en-US" sz="2800" spc="-1" strike="noStrike">
              <a:solidFill>
                <a:srgbClr val="ffffff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- Development</a:t>
            </a:r>
            <a:endParaRPr b="0" lang="en-US" sz="28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96" name="Picture 6" descr="Zebra danio"/>
          <p:cNvPicPr/>
          <p:nvPr/>
        </p:nvPicPr>
        <p:blipFill>
          <a:blip r:embed="rId2"/>
          <a:stretch/>
        </p:blipFill>
        <p:spPr>
          <a:xfrm>
            <a:off x="1066680" y="1874880"/>
            <a:ext cx="35053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ood, the Bad, and the Ug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oper Sco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http://sharpiron.files.wordpress.com/2007/12/doggie-pooper-scooper.jpg"/>
          <p:cNvPicPr/>
          <p:nvPr/>
        </p:nvPicPr>
        <p:blipFill>
          <a:blip r:embed="rId1"/>
          <a:stretch/>
        </p:blipFill>
        <p:spPr>
          <a:xfrm>
            <a:off x="2743200" y="4038480"/>
            <a:ext cx="3762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205704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u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ser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cor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http://scienceblogs.com/pharyngula/2007/11/29/stereozoom.jpg"/>
          <p:cNvPicPr/>
          <p:nvPr/>
        </p:nvPicPr>
        <p:blipFill>
          <a:blip r:embed="rId1"/>
          <a:stretch/>
        </p:blipFill>
        <p:spPr>
          <a:xfrm>
            <a:off x="4952880" y="1447920"/>
            <a:ext cx="3038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tube.c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otated zebrafish development timelap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swarthmore.edu/NatSci/sgilber1/DB_lab/Fish/img_fish/zebrafish_stage.jp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earch Opportuniti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our Classroo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1"/>
          <a:srcRect l="10258" t="14016" r="15384" b="0"/>
          <a:stretch/>
        </p:blipFill>
        <p:spPr>
          <a:xfrm>
            <a:off x="2209680" y="2133720"/>
            <a:ext cx="4745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companying 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bles/Grap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tality/Viability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ve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lletin boards/School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the beginning . . 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04920" y="3886200"/>
            <a:ext cx="861048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k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Dr. Steve Farber</a:t>
            </a:r>
            <a:endParaRPr b="0" lang="en-US" sz="2000" spc="-1" strike="noStrike">
              <a:solidFill>
                <a:srgbClr val="ffffff"/>
              </a:solidFill>
              <a:latin typeface="Gene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ki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Dr. Jamie Shuda</a:t>
            </a:r>
            <a:endParaRPr b="0" lang="en-US" sz="2000" spc="-1" strike="noStrike">
              <a:solidFill>
                <a:srgbClr val="ffffff"/>
              </a:solidFill>
              <a:latin typeface="Genev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바탕"/>
                <a:ea typeface="바탕"/>
              </a:rPr>
              <a:t>The basic principles of the life sciences need to be integrated early in the K-12 curriculum  </a:t>
            </a:r>
            <a:r>
              <a:rPr b="0" lang="en-US" sz="2000" spc="-1" strike="noStrike">
                <a:solidFill>
                  <a:srgbClr val="ffff99"/>
                </a:solidFill>
                <a:latin typeface="바탕"/>
                <a:ea typeface="바탕"/>
              </a:rPr>
              <a:t>(Sylwester, 2001). </a:t>
            </a:r>
            <a:endParaRPr b="0" lang="en-US" sz="2000" spc="-1" strike="noStrike">
              <a:solidFill>
                <a:srgbClr val="ffffff"/>
              </a:solidFill>
              <a:latin typeface="Genev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45" name="Picture 5" descr="Photo 4"/>
          <p:cNvPicPr/>
          <p:nvPr/>
        </p:nvPicPr>
        <p:blipFill>
          <a:blip r:embed="rId1"/>
          <a:srcRect l="12839" t="5756" r="22105" b="0"/>
          <a:stretch/>
        </p:blipFill>
        <p:spPr>
          <a:xfrm>
            <a:off x="1219320" y="1828800"/>
            <a:ext cx="238428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farber"/>
          <p:cNvPicPr/>
          <p:nvPr/>
        </p:nvPicPr>
        <p:blipFill>
          <a:blip r:embed="rId2"/>
          <a:stretch/>
        </p:blipFill>
        <p:spPr>
          <a:xfrm>
            <a:off x="6095880" y="685800"/>
            <a:ext cx="22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바탕"/>
                <a:ea typeface="바탕"/>
              </a:rPr>
              <a:t>Science Outreach Program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807696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바탕"/>
                <a:ea typeface="바탕"/>
              </a:rPr>
              <a:t>To foster an enthusiasm for science education, promote interest for future participation in a biology-related field, and allow all students the opportunity to learn life science through a hands-on, student-centered approach to instru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2" descr="http://www.masaru-emoto.net/image/photo-200505/20050515-PD5.15-00.jpg"/>
          <p:cNvPicPr/>
          <p:nvPr/>
        </p:nvPicPr>
        <p:blipFill>
          <a:blip r:embed="rId1"/>
          <a:stretch/>
        </p:blipFill>
        <p:spPr>
          <a:xfrm>
            <a:off x="6450120" y="4572000"/>
            <a:ext cx="2313000" cy="189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elekta.com/assets/healthcareinternational949655_tju1.jpg"/>
          <p:cNvPicPr/>
          <p:nvPr/>
        </p:nvPicPr>
        <p:blipFill>
          <a:blip r:embed="rId2"/>
          <a:stretch/>
        </p:blipFill>
        <p:spPr>
          <a:xfrm>
            <a:off x="457200" y="469908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바탕"/>
                <a:ea typeface="바탕"/>
              </a:rPr>
              <a:t>Partnering School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32767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  <a:ea typeface="바탕"/>
              </a:rPr>
              <a:t>Camden City, NJ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520" y="1676160"/>
            <a:ext cx="76197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  <a:ea typeface="바탕"/>
              </a:rPr>
              <a:t>Philadelphia, 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1943280" cy="1928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5867280" y="2590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  <a:ea typeface="바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  <a:ea typeface="바탕"/>
              </a:rPr>
              <a:t>Baltimore, MD</a:t>
            </a:r>
            <a:endParaRPr b="0" lang="en-US" sz="28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04920" y="5715000"/>
            <a:ext cx="85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  <a:ea typeface="바탕"/>
              </a:rPr>
              <a:t>Lehigh Valley, PA, New York City, NY, South Bend, IN.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58" name="Picture 10" descr="Balitmore County Public School District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3505320"/>
            <a:ext cx="17524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99"/>
                </a:solidFill>
                <a:latin typeface="바탕"/>
                <a:ea typeface="바탕"/>
              </a:rPr>
              <a:t>Making an impact</a:t>
            </a:r>
            <a:br>
              <a:rPr sz="5400"/>
            </a:br>
            <a:r>
              <a:rPr b="1" lang="en-US" sz="5400" spc="-1" strike="noStrike">
                <a:solidFill>
                  <a:srgbClr val="ffff99"/>
                </a:solidFill>
                <a:latin typeface="Ski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바탕"/>
                <a:ea typeface="바탕"/>
              </a:rPr>
              <a:t>Reaching Philadelphia Teache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바탕"/>
                <a:ea typeface="바탕"/>
              </a:rPr>
              <a:t>2007-200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Teach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teran Teach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 Teach Teach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5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hiladelphia Teac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4" descr="Default Line"/>
          <p:cNvPicPr/>
          <p:nvPr/>
        </p:nvPicPr>
        <p:blipFill>
          <a:blip r:embed="rId1"/>
          <a:stretch/>
        </p:blipFill>
        <p:spPr>
          <a:xfrm>
            <a:off x="1752480" y="5181480"/>
            <a:ext cx="5586480" cy="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99"/>
                </a:solidFill>
                <a:latin typeface="바탕"/>
                <a:ea typeface="바탕"/>
              </a:rPr>
              <a:t>Making an impact</a:t>
            </a:r>
            <a:br>
              <a:rPr sz="5400"/>
            </a:br>
            <a:r>
              <a:rPr b="1" lang="en-US" sz="5400" spc="-1" strike="noStrike">
                <a:solidFill>
                  <a:srgbClr val="ffff99"/>
                </a:solidFill>
                <a:latin typeface="Ski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Skia"/>
              </a:rPr>
              <a:t>	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바탕"/>
                <a:ea typeface="바탕"/>
              </a:rPr>
              <a:t>Reaching Philadelphia Students 2007-200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514 Elementar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1,280 Middle Scho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1,099 High School</a:t>
            </a:r>
            <a:br>
              <a:rPr sz="28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바탕"/>
                <a:ea typeface="바탕"/>
              </a:rPr>
              <a:t>2, 893</a:t>
            </a:r>
            <a:r>
              <a:rPr b="0" i="1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바탕"/>
                <a:ea typeface="바탕"/>
              </a:rPr>
              <a:t>Since program inception: 13, 37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99"/>
                </a:solidFill>
                <a:uFillTx/>
                <a:latin typeface="Skia"/>
              </a:rPr>
              <a:t>Wh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5520" y="1218960"/>
            <a:ext cx="3048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k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9" descr="http://www.biology-blog.com/images/blogs/12-2006/zebra-fish-61290.jpg"/>
          <p:cNvPicPr/>
          <p:nvPr/>
        </p:nvPicPr>
        <p:blipFill>
          <a:blip r:embed="rId1"/>
          <a:stretch/>
        </p:blipFill>
        <p:spPr>
          <a:xfrm>
            <a:off x="2590920" y="1981080"/>
            <a:ext cx="39146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바탕"/>
                <a:ea typeface="바탕"/>
              </a:rPr>
              <a:t>An excellent model for Research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2" descr="zebrafish"/>
          <p:cNvPicPr/>
          <p:nvPr/>
        </p:nvPicPr>
        <p:blipFill>
          <a:blip r:embed="rId1"/>
          <a:stretch/>
        </p:blipFill>
        <p:spPr>
          <a:xfrm>
            <a:off x="533520" y="4191120"/>
            <a:ext cx="536724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657600" y="6095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71" name="Picture 4" descr="Zon"/>
          <p:cNvPicPr/>
          <p:nvPr/>
        </p:nvPicPr>
        <p:blipFill>
          <a:blip r:embed="rId2"/>
          <a:stretch/>
        </p:blipFill>
        <p:spPr>
          <a:xfrm>
            <a:off x="228600" y="1295280"/>
            <a:ext cx="2743200" cy="1905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-228600" y="3352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nev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Stem Cell Research at Harvard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73" name="Picture 8" descr="http://www.cellbio.duke.edu/Faculty/Poss/PossLabWebsite/flheartken.jpg"/>
          <p:cNvPicPr/>
          <p:nvPr/>
        </p:nvPicPr>
        <p:blipFill>
          <a:blip r:embed="rId3"/>
          <a:stretch/>
        </p:blipFill>
        <p:spPr>
          <a:xfrm>
            <a:off x="3429000" y="1295280"/>
            <a:ext cx="2381400" cy="1943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3276720" y="335268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Organ regeneration at Duke 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319400" y="6172200"/>
            <a:ext cx="37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Lipid metabolism at Jefferson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76" name="Picture 10" descr="http://www.mssm.edu/include/images/content_areas/research_pics/sadlek01/slide1.jpg%20"/>
          <p:cNvPicPr/>
          <p:nvPr/>
        </p:nvPicPr>
        <p:blipFill>
          <a:blip r:embed="rId4"/>
          <a:stretch/>
        </p:blipFill>
        <p:spPr>
          <a:xfrm>
            <a:off x="6095880" y="1981080"/>
            <a:ext cx="2847960" cy="2838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2"/>
          <p:cNvSpPr/>
          <p:nvPr/>
        </p:nvSpPr>
        <p:spPr>
          <a:xfrm>
            <a:off x="6095880" y="51055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Liver development, regeneration, 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nd disease 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at Mount Sinai</a:t>
            </a:r>
            <a:endParaRPr b="0" lang="en-US" sz="1600" spc="-1" strike="noStrike">
              <a:solidFill>
                <a:srgbClr val="ffffff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바탕"/>
                <a:ea typeface="바탕"/>
              </a:rPr>
              <a:t>A model for science education reform effor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ki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143000" y="2743200"/>
            <a:ext cx="347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quiry-based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ands-on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inds-on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ross-Disciplinary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tandards aligned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-depth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llaborative</a:t>
            </a:r>
            <a:endParaRPr b="0" lang="en-US" sz="2400" spc="-1" strike="noStrike">
              <a:solidFill>
                <a:srgbClr val="ffffff"/>
              </a:solidFill>
              <a:latin typeface="Geneva"/>
            </a:endParaRPr>
          </a:p>
        </p:txBody>
      </p:sp>
      <p:pic>
        <p:nvPicPr>
          <p:cNvPr id="81" name="Picture 8" descr="YMCA"/>
          <p:cNvPicPr/>
          <p:nvPr/>
        </p:nvPicPr>
        <p:blipFill>
          <a:blip r:embed="rId1"/>
          <a:stretch/>
        </p:blipFill>
        <p:spPr>
          <a:xfrm>
            <a:off x="4648320" y="28195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le</dc:creator>
  <dc:description/>
  <dc:language>en-US</dc:language>
  <cp:lastModifiedBy>Danielle Sixsmith</cp:lastModifiedBy>
  <cp:lastPrinted>2006-10-10T17:51:53Z</cp:lastPrinted>
  <dcterms:modified xsi:type="dcterms:W3CDTF">2008-06-25T03:18:33Z</dcterms:modified>
  <cp:revision>98</cp:revision>
  <dc:subject/>
  <dc:title>Thomas Jefferson University’s  Science Outreach Program</dc:title>
</cp:coreProperties>
</file>