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B9E31-1F1D-449C-8EBC-65C216560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2345A-439A-484A-8687-AA6918ABF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850A4-7739-472F-BD36-06FB3D244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E5B08-CFD7-42EA-8BD5-268D443B9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6C9B4-1AB3-4B0B-8FE5-F8790EB0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E7CA0-845E-4D1A-ACAF-459877F82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7E85-7043-43E2-81C3-160B236E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57A2-C93F-44CF-AEDE-98C313FA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89C3D-7B26-4E35-8B1F-B5E3AC5F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3590-0B0E-49CF-8911-E8CD0492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48777-6E24-4B21-BC5C-8410B68F4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FFB45-EF90-446C-98CB-705463611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E615-2188-4667-B8C0-240CE717C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Text Box 2"/>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7" name="Text Box 2"/>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3" descr="C:\Documents and Settings\All Users.WINDOWS\Documents\My Pictures\Kodak Pictures\6-25-2009\100_3784.jpg"/>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9" name="Rectangle 2"/>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Picture 8" descr="http://weboflife.nasa.gov/images/zebrafish.jpg"/>
          <p:cNvPicPr/>
          <p:nvPr/>
        </p:nvPicPr>
        <p:blipFill>
          <a:blip r:embed="rId1"/>
          <a:stretch/>
        </p:blipFill>
        <p:spPr>
          <a:xfrm>
            <a:off x="2286000" y="2057400"/>
            <a:ext cx="4495680" cy="2752560"/>
          </a:xfrm>
          <a:prstGeom prst="rect">
            <a:avLst/>
          </a:prstGeom>
          <a:ln w="0">
            <a:noFill/>
          </a:ln>
        </p:spPr>
      </p:pic>
      <p:sp>
        <p:nvSpPr>
          <p:cNvPr id="43" name="Text Box 9"/>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Text Box 11"/>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Rectangle 4"/>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5"/>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icture 7" descr="http://www.cfkeep.org/html/phpThumb.php?src=/uploads/zebrafish_for_web.jpg&amp;aoe=1&amp;w="/>
          <p:cNvPicPr/>
          <p:nvPr/>
        </p:nvPicPr>
        <p:blipFill>
          <a:blip r:embed="rId1"/>
          <a:stretch/>
        </p:blipFill>
        <p:spPr>
          <a:xfrm>
            <a:off x="4019400" y="2895480"/>
            <a:ext cx="4248360" cy="3399120"/>
          </a:xfrm>
          <a:prstGeom prst="rect">
            <a:avLst/>
          </a:prstGeom>
          <a:ln w="0">
            <a:noFill/>
          </a:ln>
        </p:spPr>
      </p:pic>
      <p:sp>
        <p:nvSpPr>
          <p:cNvPr id="52" name="Text Box 8"/>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pic>
        <p:nvPicPr>
          <p:cNvPr id="53" name="Picture 5" descr=""/>
          <p:cNvPicPr/>
          <p:nvPr/>
        </p:nvPicPr>
        <p:blipFill>
          <a:blip r:embed="rId2"/>
          <a:stretch/>
        </p:blipFill>
        <p:spPr>
          <a:xfrm>
            <a:off x="1066680" y="2057400"/>
            <a:ext cx="2819520" cy="2224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4" name="Picture 2" descr="C:\Documents and Settings\All Users.WINDOWS\Documents\My Pictures\Kodak Pictures\6-25-2009\100_3766.jpg"/>
          <p:cNvPicPr/>
          <p:nvPr/>
        </p:nvPicPr>
        <p:blipFill>
          <a:blip r:embed="rId1"/>
          <a:stretch/>
        </p:blipFill>
        <p:spPr>
          <a:xfrm>
            <a:off x="3505320" y="609480"/>
            <a:ext cx="4952880" cy="3714840"/>
          </a:xfrm>
          <a:prstGeom prst="rect">
            <a:avLst/>
          </a:prstGeom>
          <a:ln w="0">
            <a:noFill/>
          </a:ln>
        </p:spPr>
      </p:pic>
      <p:pic>
        <p:nvPicPr>
          <p:cNvPr id="55" name="Picture 4" descr="C:\Documents and Settings\All Users.WINDOWS\Documents\My Pictures\Kodak Pictures\6-25-2009\100_3771.jpg"/>
          <p:cNvPicPr/>
          <p:nvPr/>
        </p:nvPicPr>
        <p:blipFill>
          <a:blip r:embed="rId2">
            <a:lum bright="40000"/>
          </a:blip>
          <a:stretch/>
        </p:blipFill>
        <p:spPr>
          <a:xfrm>
            <a:off x="914400" y="2590920"/>
            <a:ext cx="2514600" cy="1885680"/>
          </a:xfrm>
          <a:prstGeom prst="rect">
            <a:avLst/>
          </a:prstGeom>
          <a:ln w="0">
            <a:noFill/>
          </a:ln>
        </p:spPr>
      </p:pic>
      <p:sp>
        <p:nvSpPr>
          <p:cNvPr id="56" name="Text Box 5"/>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7" name="Picture 6" descr="C:\Documents and Settings\All Users.WINDOWS\Documents\My Pictures\Kodak Pictures\6-25-2009\100_3761.jpg"/>
          <p:cNvPicPr/>
          <p:nvPr/>
        </p:nvPicPr>
        <p:blipFill>
          <a:blip r:embed="rId3"/>
          <a:stretch/>
        </p:blipFill>
        <p:spPr>
          <a:xfrm>
            <a:off x="228600" y="228600"/>
            <a:ext cx="3505320" cy="262908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checkerboard(across)"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checkerboard(across)"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checkerboard(across)"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9" name="Picture 2" descr="C:\Documents and Settings\Donna\My Documents\My Pictures\moto_0031.jpg"/>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1676520" y="228600"/>
          <a:ext cx="5676840" cy="5581800"/>
        </p:xfrm>
        <a:graphic>
          <a:graphicData uri="http://schemas.openxmlformats.org/presentationml/2006/ole">
            <p:oleObj r:id="rId1" spid="">
              <p:embed/>
              <p:pic>
                <p:nvPicPr>
                  <p:cNvPr id="61"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2" name="Text Box 7"/>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3" name="Text Box 2"/>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C:\Documents and Settings\All Users.WINDOWS\Documents\My Pictures\Kodak Pictures\6-25-2009\100_3781.jpg"/>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5" name="Text Box 3"/>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LightWave</cp:lastModifiedBy>
  <dcterms:modified xsi:type="dcterms:W3CDTF">2009-06-25T17:31:37Z</dcterms:modified>
  <cp:revision>7</cp:revision>
  <dc:subject/>
  <dc:title>PowerPoint Presentation</dc:title>
</cp:coreProperties>
</file>