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0F374-BDB6-43CE-8C06-42952EEF5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3DE1-2425-4418-8501-83EF3B6A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92733-DF8F-4B4B-AA92-C9D77AF1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62667-252E-49C9-82B1-662E15C2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C68AA-A95F-4ECA-BD07-0016C0206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A2D5E-30BF-459F-BA66-1CCC48B0D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B357D-0579-4996-9C8F-5E3DB418B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8A9F4-8ADA-4393-B1A7-75E775CD5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08CA-E7F2-4BD1-934B-65935C3D8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BA961-6EE4-4BB9-A43C-84EB83113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019A4-67EE-4AB6-B30A-AD77548CC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CD48E-D8E4-42BA-A721-2505DDA8D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1264-0C2C-4284-AFEF-7102102AB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4FE6-7C69-4AD2-A0D1-4F2C147CB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F1BCE-A7CA-45EC-9DCD-E3DEB23C0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80BAC-AE95-40A4-AF20-D18CB1FCA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57E52-B1AA-4FB3-84C7-1C2F11F31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4B9B3-B8AC-4DC4-83FA-03857A2A5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D2E4-2F12-4C63-8975-D7AC390E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25FD-425D-4D8A-855D-836802A22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1527F-F946-4CFC-BBCF-E614AEFF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8050-7F27-453A-A82F-223D51EB7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43B1-037A-4A0F-84DB-0B0B538A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0A48-C51C-463D-B357-9671A04D7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9F0C-5C17-4D32-9FA3-A96C5F289D1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183D-4198-414A-BEFB-4F8A2D58ABB0}"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62120"/>
            <a:ext cx="761976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Rounded MT Bold"/>
              </a:rPr>
              <a:t>What Really is Tay-Sachs Disease? </a:t>
            </a:r>
            <a:br>
              <a:rPr sz="4800"/>
            </a:br>
            <a:r>
              <a:rPr b="0" i="1" lang="en-US" sz="3200" spc="-1" strike="noStrike">
                <a:solidFill>
                  <a:srgbClr val="000000"/>
                </a:solidFill>
                <a:latin typeface="Arial Rounded MT Bold"/>
              </a:rPr>
              <a:t>By  Aaron Husband</a:t>
            </a:r>
            <a:endParaRPr b="0" lang="en-US" sz="3200" spc="-1" strike="noStrike">
              <a:solidFill>
                <a:srgbClr val="000000"/>
              </a:solidFill>
              <a:latin typeface="Arial"/>
            </a:endParaRPr>
          </a:p>
        </p:txBody>
      </p:sp>
      <p:pic>
        <p:nvPicPr>
          <p:cNvPr id="83" name="" descr=""/>
          <p:cNvPicPr/>
          <p:nvPr/>
        </p:nvPicPr>
        <p:blipFill>
          <a:blip r:embed="rId1"/>
          <a:stretch/>
        </p:blipFill>
        <p:spPr>
          <a:xfrm>
            <a:off x="1371600" y="3381480"/>
            <a:ext cx="4724280" cy="268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t Carries Through The Body</a:t>
            </a:r>
            <a:endParaRPr b="0" lang="en-US" sz="4000" spc="-1" strike="noStrike">
              <a:solidFill>
                <a:srgbClr val="000000"/>
              </a:solidFill>
              <a:latin typeface="Arial"/>
            </a:endParaRPr>
          </a:p>
        </p:txBody>
      </p:sp>
      <p:sp>
        <p:nvSpPr>
          <p:cNvPr id="105" name="PlaceHolder 2"/>
          <p:cNvSpPr>
            <a:spLocks noGrp="1"/>
          </p:cNvSpPr>
          <p:nvPr>
            <p:ph/>
          </p:nvPr>
        </p:nvSpPr>
        <p:spPr>
          <a:xfrm>
            <a:off x="914040" y="1676160"/>
            <a:ext cx="7162920" cy="32763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carry oxygen and remove carbon dioxide from your body.In sickle cell anemia, a lower than normal number of red blood cells occurs because sickle cells don’</a:t>
            </a:r>
            <a:r>
              <a:rPr b="0" lang="en-US" sz="2000" spc="-1" strike="noStrike">
                <a:solidFill>
                  <a:srgbClr val="000000"/>
                </a:solidFill>
                <a:latin typeface="Arial"/>
              </a:rPr>
              <a:t>t</a:t>
            </a:r>
            <a:r>
              <a:rPr b="0" lang="en-US" sz="2000" spc="-1" strike="noStrike">
                <a:solidFill>
                  <a:srgbClr val="000000"/>
                </a:solidFill>
                <a:latin typeface="Arial"/>
              </a:rPr>
              <a:t> last very long. Sickle cells usually die after only about 10 to 20 days. The bone marrow can</a:t>
            </a:r>
            <a:r>
              <a:rPr b="0" lang="en-US" sz="2000" spc="-1" strike="noStrike">
                <a:solidFill>
                  <a:srgbClr val="000000"/>
                </a:solidFill>
                <a:latin typeface="Arial"/>
              </a:rPr>
              <a:t>’t</a:t>
            </a:r>
            <a:r>
              <a:rPr b="0" lang="en-US" sz="2000" spc="-1" strike="noStrike">
                <a:solidFill>
                  <a:srgbClr val="000000"/>
                </a:solidFill>
                <a:latin typeface="Arial"/>
              </a:rPr>
              <a:t> make new red blood cells fast enough to replace the dying 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ients with sickle cell anemia</a:t>
            </a:r>
            <a:endParaRPr b="0" lang="en-US" sz="40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3352680" y="2743200"/>
            <a:ext cx="2743200" cy="24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rmal Blood Cell And The Sickle Cell Blood Cell</a:t>
            </a:r>
            <a:endParaRPr b="0" lang="en-US" sz="40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2416320" y="3330720"/>
            <a:ext cx="3724200" cy="24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LUSk8Lu3TK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Is I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re genetic disorder that affects nerve cells in the brain and sp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d causing severe mental and developmental retardation.</a:t>
            </a:r>
            <a:endParaRPr b="0" lang="en-US" sz="3200" spc="-1" strike="noStrike">
              <a:solidFill>
                <a:srgbClr val="000000"/>
              </a:solidFill>
              <a:latin typeface="Arial"/>
            </a:endParaRPr>
          </a:p>
        </p:txBody>
      </p:sp>
      <p:pic>
        <p:nvPicPr>
          <p:cNvPr id="86" name="" descr=""/>
          <p:cNvPicPr/>
          <p:nvPr/>
        </p:nvPicPr>
        <p:blipFill>
          <a:blip r:embed="rId1"/>
          <a:stretch/>
        </p:blipFill>
        <p:spPr>
          <a:xfrm>
            <a:off x="2971800" y="40384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Genetics</a:t>
            </a:r>
            <a:endParaRPr b="0" lang="en-US" sz="4400" spc="-1" strike="noStrike">
              <a:solidFill>
                <a:srgbClr val="000000"/>
              </a:solidFill>
              <a:latin typeface="Arial"/>
            </a:endParaRPr>
          </a:p>
        </p:txBody>
      </p:sp>
      <p:sp>
        <p:nvSpPr>
          <p:cNvPr id="8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 defect in a gene known as HEXA. </a:t>
            </a:r>
            <a:r>
              <a:rPr b="0" lang="en-US" sz="2400" spc="-1" strike="noStrike">
                <a:solidFill>
                  <a:srgbClr val="333333"/>
                </a:solidFill>
                <a:latin typeface="Arial"/>
              </a:rPr>
              <a:t>Tay-Sachs disease is an autosomal recessive genetic disorder. This means that each parent of an affected child is a carrier of one copy of the mutated gene, although they do not exhibit any signs or symptoms. If both parents are carriers of the mutated gene there is 25% chance in each pregnancy that the child will have Tay-Sachs disease.</a:t>
            </a:r>
            <a:endParaRPr b="0" lang="en-US" sz="2400" spc="-1" strike="noStrike">
              <a:solidFill>
                <a:srgbClr val="000000"/>
              </a:solidFill>
              <a:latin typeface="Arial"/>
            </a:endParaRPr>
          </a:p>
        </p:txBody>
      </p:sp>
      <p:pic>
        <p:nvPicPr>
          <p:cNvPr id="89" name="" descr=""/>
          <p:cNvPicPr/>
          <p:nvPr/>
        </p:nvPicPr>
        <p:blipFill>
          <a:blip r:embed="rId1"/>
          <a:stretch/>
        </p:blipFill>
        <p:spPr>
          <a:xfrm>
            <a:off x="4876920" y="4267080"/>
            <a:ext cx="32223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at Are Common Symptoms?</a:t>
            </a:r>
            <a:endParaRPr b="0" lang="en-US" sz="4400" spc="-1" strike="noStrike">
              <a:solidFill>
                <a:srgbClr val="000000"/>
              </a:solidFill>
              <a:latin typeface="Arial"/>
            </a:endParaRPr>
          </a:p>
        </p:txBody>
      </p:sp>
      <p:pic>
        <p:nvPicPr>
          <p:cNvPr id="91" name="" descr=""/>
          <p:cNvPicPr/>
          <p:nvPr/>
        </p:nvPicPr>
        <p:blipFill>
          <a:blip r:embed="rId1"/>
          <a:stretch/>
        </p:blipFill>
        <p:spPr>
          <a:xfrm>
            <a:off x="2590920" y="5486400"/>
            <a:ext cx="4101840" cy="838080"/>
          </a:xfrm>
          <a:prstGeom prst="rect">
            <a:avLst/>
          </a:prstGeom>
          <a:ln w="0">
            <a:noFill/>
          </a:ln>
        </p:spPr>
      </p:pic>
      <p:sp>
        <p:nvSpPr>
          <p:cNvPr id="92"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time in life with symptoms are the most noticeable are during childhood. About 3 to 6 months parents will notice a cherry-red spot in the child’s retina. Characteristic symptoms of Tay-Sachs disease include muscle weakness, loss of muscle coordination and other problems with movement, speech problems, and mental il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How Many Are Reported A Ye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year, about 16 cases of Tay-Sachs are diagnosed in the United States.</a:t>
            </a:r>
            <a:endParaRPr b="0" lang="en-US" sz="3200" spc="-1" strike="noStrike">
              <a:solidFill>
                <a:srgbClr val="000000"/>
              </a:solidFill>
              <a:latin typeface="Arial"/>
            </a:endParaRPr>
          </a:p>
        </p:txBody>
      </p:sp>
      <p:pic>
        <p:nvPicPr>
          <p:cNvPr id="95" name="" descr=""/>
          <p:cNvPicPr/>
          <p:nvPr/>
        </p:nvPicPr>
        <p:blipFill>
          <a:blip r:embed="rId1"/>
          <a:stretch/>
        </p:blipFill>
        <p:spPr>
          <a:xfrm>
            <a:off x="2819520" y="3352680"/>
            <a:ext cx="4495680" cy="28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Anemia</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elia Till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Bank Gothic"/>
              </a:rPr>
              <a:t>What Is Sickle Cell Anemi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2000" spc="-1" strike="noStrike">
                <a:solidFill>
                  <a:srgbClr val="000000"/>
                </a:solidFill>
                <a:latin typeface="Arial"/>
              </a:rPr>
              <a:t>Sickle cell anemia  is a serious disease in which the body makes sickle   shaped red blood cells. “Sickle shaped” means that the red blood cells are shaped like a "C. Normal red blood cells are disc-shaped and look like doughnuts without holes in the center. They move easily through your blood vessels. Red blood cells contain the protein hemoglobin. This iron rich protein gives blood its red color and carries oxygen from the lungs to the rest of the body.Sickle cells contain abnormal hemoglobin that causes the cells to have a sickle shape. Sickle-shaped cells don’t move easily through your blood vessels. They’re stiff and sticky and tend to form clumps and get stuck in the blood vessels. The clumps of sickle cells block blood flow in the blood vessels that lead to the limbs and organs. Blocked blood vessels can cause pain, serious infe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ckle Cell Condition</a:t>
            </a:r>
            <a:endParaRPr b="0" lang="en-US" sz="4400" spc="-1" strike="noStrike">
              <a:solidFill>
                <a:srgbClr val="000000"/>
              </a:solidFill>
              <a:latin typeface="Arial"/>
            </a:endParaRPr>
          </a:p>
        </p:txBody>
      </p:sp>
      <p:sp>
        <p:nvSpPr>
          <p:cNvPr id="103"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emia is a condition in which your blood has a lower than normal number of red blood cells. This condition also can occur if your red blood cells don’</a:t>
            </a:r>
            <a:r>
              <a:rPr b="0" lang="en-US" sz="1800" spc="-1" strike="noStrike">
                <a:solidFill>
                  <a:srgbClr val="000000"/>
                </a:solidFill>
                <a:latin typeface="Arial"/>
              </a:rPr>
              <a:t>t</a:t>
            </a:r>
            <a:r>
              <a:rPr b="0" lang="en-US" sz="1800" spc="-1" strike="noStrike">
                <a:solidFill>
                  <a:srgbClr val="000000"/>
                </a:solidFill>
                <a:latin typeface="Arial"/>
              </a:rPr>
              <a:t> have enough hemoglobin.Red blood cells are made in the spongy marrow inside the large bones of the body. Bone marrow is always making new red blood cells to replace old ones. Normal red blood cells last about 120 days in the bloodstream and then d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46Z</dcterms:created>
  <dc:creator>Student</dc:creator>
  <dc:description/>
  <dc:language>en-US</dc:language>
  <cp:lastModifiedBy>deborah semmler</cp:lastModifiedBy>
  <dcterms:modified xsi:type="dcterms:W3CDTF">2009-07-14T23:20:26Z</dcterms:modified>
  <cp:revision>4</cp:revision>
  <dc:subject/>
  <dc:title>What Really is Tay-Sachs Disease?</dc:title>
</cp:coreProperties>
</file>