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777-0045-4E85-8CC0-491D3C1D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56F-D0E2-4860-AE4F-029A8E3F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CF3-CA1F-4E50-A01B-8797C1CE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B8E-79D9-4951-85C5-22B8A78C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3B77-B825-4152-A83E-0265786A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41FE-EB1B-45F5-B6D8-CF573BCF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5EE0-328D-49F1-8F62-65687FDE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536C-EF94-4632-B302-2F771936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A582-5AD8-4F9B-8675-97743D8F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C924-EC39-43A0-B0E8-72C3C6CF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1D1C-20A1-4D3A-BA83-B9D5FC67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A3F-A861-416F-9B2F-EF08629D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1666-D087-46D6-A81D-A31CC6CA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BD7B-8FC2-4A18-A56D-384CC753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C439-0427-4146-B136-838B971B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8D6C-6CDB-4D88-AF49-BC121456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3137-8680-446B-AD66-4CE7294C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32FF-B021-4835-B032-D93AEA50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81D-E657-4DA6-9FCC-452186F3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B64-E01E-49A7-8149-BEF04E60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364-2071-46F8-9529-1636AD9D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484-E220-442D-A0FC-E0C53AB6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94A-25D9-46F5-932A-8E10D956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769-48F2-4977-9B26-06579DC6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50EA-3B7E-42BF-86CB-AF30F6ED4145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B842-5939-498F-AF6F-90D675DC48D8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0ZoEGnTAM0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CxkylRxJxh8&amp;feature=relate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Hemophilia and AL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y: Maricela Navarro, Essance War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&amp; Asia Thoma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we all did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ssance found the information on the ALD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aricela found the information on the hemophilia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sia  put the information together on the power poin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urce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ttp://www.youtube.com/watch?v=CxkylRxJxh8&amp;feature=relat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ww.umm.edu/ency/article/001182trt.ht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www.youtube.com/watch?v=F0ZoEGnTAM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health.nytimes.com/health/guides/disease/adrenoleukodystrophy/overview.htm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www.wrongdiagnosis.com/a/adrenoleukodystrophy/prevalence.ht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The Genetics of Hemophilia and Symptoms: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ly the X chromosome carries the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a__x001a_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genes related to clotting factor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male who has the abnormal gene on his X chromosome will have i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female must have the abnormal gene on both of her X chromosomes to have it, which is very rar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ymptoms are excessive bleeding, bleeding in the joints, and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the br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who have severe hemophilia may bleed spontaneously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Some Facts about Hemophilia: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bout 18,000 people in the U.S. have it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400 babies are born with the disorder every yea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disorder usually occurs in ma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4952880"/>
            <a:ext cx="2428920" cy="15829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roblems Person Has Because of the Disease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Century Gothic"/>
                <a:hlinkClick r:id="rId2"/>
              </a:rPr>
              <a:t>Hemophili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are unable to control blood clotting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867280" y="3828960"/>
            <a:ext cx="2913120" cy="2183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9480" y="3921120"/>
            <a:ext cx="40388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reatment and Prognosi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reatment cent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void Ibuprof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ay away from sharp corn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od lifestyle, almost norm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,681 deaths per yea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35840" y="2286000"/>
            <a:ext cx="205272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drenoleukodystrophy (ALD)-Genetics of Disease and Symptoms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s disorder is an X-linked genetic trait.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oss weight, hearing loss, hyper activity, and swallowing difficulti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3810240" cy="227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267080" y="4267080"/>
            <a:ext cx="3557880" cy="2295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me Fact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 in 20,000 people suffer from ALD of all rac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ostly males have this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2495520" cy="298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638680" y="3657600"/>
            <a:ext cx="25844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roblems Person Has Because of ALD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body is unable to break down certain fat molecu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Verdana"/>
                <a:hlinkClick r:id="rId2"/>
              </a:rPr>
              <a:t>AL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4724640" cy="3778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reatment and Prognosi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hysical therapy, psychological support, special education, Lorenzo's oil, and steroids are all treatments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eath usually occurs 1-10 years after the onset of symptom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8:28:19Z</dcterms:created>
  <dc:creator>Student</dc:creator>
  <dc:description/>
  <dc:language>en-US</dc:language>
  <cp:lastModifiedBy>Student</cp:lastModifiedBy>
  <dcterms:modified xsi:type="dcterms:W3CDTF">2009-06-29T19:09:13Z</dcterms:modified>
  <cp:revision>4</cp:revision>
  <dc:subject/>
  <dc:title>Hemophilia and ALD</dc:title>
</cp:coreProperties>
</file>