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68F-A6FD-4EDC-BD9A-B490DCB8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0B1-DEA1-4A6E-A11C-7F5E3A1B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BB9-A5D1-45F0-807C-5E594978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6CB-4A78-435B-BEAC-37A9402B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DADA-C5BF-470D-86DE-C2813CBA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E40-760B-459E-9097-3540DA8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2C5-9C8E-46B5-A022-1903CE3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D620-404F-4862-9CEC-F4E0B603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144E-96BE-46C3-AB52-7DF6243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CF2A-FB82-4807-AEBA-FEE4FAB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E7B-2586-459F-869B-5910B49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4DE-E9D5-4E67-AD89-382F1AF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4DC-B85D-40D2-B4ED-8A62DCB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B668-B508-48CE-9CDB-FD36695C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A47-25C2-4BC7-B60C-F546A53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3DEE-C89D-42AD-B6A9-F49C5485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37B6-A542-4132-8199-306E3DE7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49B-FB4B-4423-AEBE-D7D39259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95C-82B6-43BB-8210-7453992C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7B0-9739-42C4-B43D-D4F5F94E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229-F629-4C06-AF2B-1D7EE9B7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661-D08F-4129-8BEF-716539B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1C1-1BA9-4E90-AF37-15FBC26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1EA-7B2D-4EBA-B75A-16EC6151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871B-CDC9-4F5A-830A-05899F1C9634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80FB-3A4B-4AFE-AD75-B5D94DA703A5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0ZoEGnTAM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xkylRxJxh8&amp;feature=relate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Hemophilia and AL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: Maricela Navarro, Essance War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&amp; Asia Thoma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we all di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sance found the information on the ALD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icela found the information on the hemophilia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ia  put the information together on the power poin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www.youtube.com/watch?v=CxkylRxJxh8&amp;feature=rela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ww.umm.edu/ency/article/001182trt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youtube.com/watch?v=F0ZoEGnTAM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health.nytimes.com/health/guides/disease/adrenoleukodystrophy/overview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entury Gothic"/>
              </a:rPr>
              <a:t>http://www.wrongdiagnosis.com/a/adrenoleukodystrophy/prevalence.ht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The Genetics of Hemophilia and Symptoms: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ly the X chromosome carries the</a:t>
            </a: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_x001a_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enes related to clotting factor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male who has the abnormal gene on his X chromosome will have 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female must have the abnormal gene on both of her X chromosomes to have it, which is very ra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mptoms are excessive bleeding, bleeding in the joints, and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the br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who have severe hemophilia may bleed spontaneously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Some Facts about Hemophilia: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bout 18,000 people in the U.S. have it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00 babies are born with the disorder every yea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disorder usually occurs in ma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4952880"/>
            <a:ext cx="242892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blems Person Has Because of the Diseas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Hemophili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unable to control blood clotting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867280" y="3828960"/>
            <a:ext cx="2913120" cy="2183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3921120"/>
            <a:ext cx="40388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reatment cen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Ibuprof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y away from sharp corn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od lifestyle, almost norm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,681 deaths per ye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35840" y="2286000"/>
            <a:ext cx="205272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drenoleukodystrophy (ALD)-Genetics of Disease and Symptom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disorder is an X-linked genetic trait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ss weight, hearing loss, hyper activity, and swallowing difficul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355788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 in 20,000 people suffer from ALD of all rac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ostly males have this disord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495520" cy="298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3657600"/>
            <a:ext cx="2584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roblems Person Has Because of ALD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ody is unable to break down certain fat molecu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A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2971800"/>
            <a:ext cx="472464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reatment and Prognosi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hysical therapy, psychological support, special education, Lorenzo's oil, and steroids are all treatment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ath usually occurs 1-10 years after the onset of sympto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8:28:19Z</dcterms:created>
  <dc:creator>Student</dc:creator>
  <dc:description/>
  <dc:language>en-US</dc:language>
  <cp:lastModifiedBy>Student</cp:lastModifiedBy>
  <dcterms:modified xsi:type="dcterms:W3CDTF">2009-06-29T19:09:13Z</dcterms:modified>
  <cp:revision>4</cp:revision>
  <dc:subject/>
  <dc:title>Hemophilia and ALD</dc:title>
</cp:coreProperties>
</file>