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D637-A6F7-45E8-B620-F2589F46C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966A-7DF7-4C3C-B4D7-4B11FA67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29EA-A81D-4DF1-B37D-03D91E06E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FEE3-B737-42C6-969E-9451B9D6C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C390-D8B1-402D-8FEE-68ED34FFC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57E4-FB47-4211-986A-BDD5DDBE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49F6-2EFF-413D-B3E1-361E17FA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9634-E2F3-4D48-B43A-2CBDA9BD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4A3D-5B4B-483B-9786-B06F5C6B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9AB3-C91F-4957-95D4-22E917EE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329D-3A90-47A4-BCE5-2809F72E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DF43-7D2E-4913-9FB9-1350F87F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3BA4-33E7-4459-958D-5EB68629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12CC-B572-45F7-9913-A15BF00D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5F9E-A6F2-4330-8FFB-1EFAD6C6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9848-3B69-41A9-84FE-3E7E8CC38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33C0-B6BF-460F-BB9D-0462A966E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AC29-217D-4BE2-BC50-C970F7B9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1901-2D30-4E73-9B34-F6EC60F8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8CB4-67EB-44E1-AEA5-17114CC6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23E2-D6C1-4E68-9A73-719FBF3E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EC4D-570F-4E10-841B-1EDFD515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E931-BF74-41DC-BBFD-93E3A138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2E15-053B-4860-8538-95667F65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BD7F-9726-4C09-9090-718EA9207639}" type="slidenum"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2720" cy="2057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3358-0660-460E-856B-A51FDA865B71}" type="slidenum"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F0ZoEGnTAM0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CxkylRxJxh8&amp;feature=related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2720" cy="2057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Hemophilia and ALD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480" y="4267080"/>
            <a:ext cx="5562720" cy="1524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By: Maricela Navarro, Essance Ward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&amp; Asia Thoma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What we all did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Essance found the information on the ALD disorder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Maricela found the information on the hemophilia disorder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sia  put the information together on the power point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Sources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http://www.youtube.com/watch?v=CxkylRxJxh8&amp;feature=related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www.umm.edu/ency/article/001182trt.htm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Century Gothic"/>
              </a:rPr>
              <a:t>http://www.youtube.com/watch?v=F0ZoEGnTAM0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Century Gothic"/>
              </a:rPr>
              <a:t>http://health.nytimes.com/health/guides/disease/adrenoleukodystrophy/overview.htm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Century Gothic"/>
              </a:rPr>
              <a:t>http://www.wrongdiagnosis.com/a/adrenoleukodystrophy/prevalence.htm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The Genetics of Hemophilia and Symptoms: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nly the X chromosome carries the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 W3"/>
              </a:rPr>
              <a:t>_x001a__x001a_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genes related to clotting factor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 male who has the abnormal gene on his X chromosome will have it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 female must have the abnormal gene on both of her X chromosomes to have it, which is very rar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ymptoms are excessive bleeding, bleeding in the joints, and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 the brain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ose who have severe hemophilia may bleed spontaneously.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entury Gothic"/>
              </a:rPr>
              <a:t>Some Facts about Hemophilia:</a:t>
            </a:r>
            <a:endParaRPr b="0" lang="en-US" sz="3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bout 18,000 people in the U.S. have it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400 babies are born with the disorder every year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s disorder usually occurs in males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352680" y="4952880"/>
            <a:ext cx="2428920" cy="158292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Problems Person Has Because of the Disease: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Century Gothic"/>
                <a:hlinkClick r:id="rId2"/>
              </a:rPr>
              <a:t>Hemophilia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y are unable to control blood clotting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867280" y="3828960"/>
            <a:ext cx="2913120" cy="2183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09480" y="3921120"/>
            <a:ext cx="4038840" cy="268272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Treatment and Prognosis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reatment center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void Ibuprof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tay away from sharp corner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Good lifestyle, almost norma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1,681 deaths per year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35840" y="2286000"/>
            <a:ext cx="2052720" cy="27972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drenoleukodystrophy (ALD)-Genetics of Disease and Symptoms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is disorder is an X-linked genetic trait.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oss weight, hearing loss, hyper activity, and swallowing difficultie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52280" y="3352680"/>
            <a:ext cx="3810240" cy="2276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267080" y="4267080"/>
            <a:ext cx="3557880" cy="229572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Some Facts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1 in 20,000 people suffer from ALD of all races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Mostly males have this disorder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62120" y="3733920"/>
            <a:ext cx="2495520" cy="2981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638680" y="3657600"/>
            <a:ext cx="258444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Problems Person Has Because of ALD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 body is unable to break down certain fat molecules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Verdana"/>
                <a:hlinkClick r:id="rId2"/>
              </a:rPr>
              <a:t>ALD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438280" y="2971800"/>
            <a:ext cx="4724640" cy="37782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Treatment and Prognosis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Physical therapy, psychological support, special education, Lorenzo's oil, and steroids are all treatments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Death usually occurs 1-10 years after the onset of symptoms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18:28:19Z</dcterms:created>
  <dc:creator>Student</dc:creator>
  <dc:description/>
  <dc:language>en-US</dc:language>
  <cp:lastModifiedBy>Student</cp:lastModifiedBy>
  <dcterms:modified xsi:type="dcterms:W3CDTF">2009-06-29T19:09:13Z</dcterms:modified>
  <cp:revision>4</cp:revision>
  <dc:subject/>
  <dc:title>Hemophilia and ALD</dc:title>
</cp:coreProperties>
</file>