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307-B539-432E-BEC2-6760BDC5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4FF-B5BE-4459-A5F2-CC4BB85A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F9B-8CFE-49DD-ACEC-8913F27B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A40-E111-476B-B3BF-E34859C6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67EF-B191-4BCE-9EB2-A86510C9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3D77-DEBA-4E58-9CAA-F288C842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C89E-E6A6-45AA-8131-EC0DB3BC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2129-E0AF-4EE9-B7D5-60DC2084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4261-009B-4785-A51B-DC6C8F20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14FC-6001-46C6-AEFA-A2B6D64C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033D-5F67-4E6A-AA20-D452124B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21E-1903-4E21-B0AE-EBDA340B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FE7B-162D-4121-AF13-61F14C6A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2548-3CAF-4FBB-898D-87DA758C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CE4C-505C-44E4-80F5-78496622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931E-A423-4D27-AA37-EBC7B88D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9C04-F879-442F-94C4-896FE768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7B6-B6D4-40E7-BE5F-6A44A78B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679-915B-4B67-A162-DCCD2810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979-70BC-4915-AC5C-78AE1C78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81B-5BFA-4F73-A1F4-905EBCF2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F32-33BB-492E-A1E5-B992156F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9BE-64A7-474D-BE98-CD97D7E8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D0E-FBA7-40BB-8351-B1E8870D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46BF-3AC3-43A7-9CBF-19C134944886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8FCE-6A40-416E-8F57-4C2E34AF9BF6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F0ZoEGnTAM0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CxkylRxJxh8&amp;feature=relate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Hemophilia and ALD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y: Maricela Navarro, Essance War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&amp; Asia Thoma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we all did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ssance found the information on the ALD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aricela found the information on the hemophilia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sia  put the information together on the power poin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ource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ttp://www.youtube.com/watch?v=CxkylRxJxh8&amp;feature=relate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ww.umm.edu/ency/article/001182trt.ht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www.youtube.com/watch?v=F0ZoEGnTAM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health.nytimes.com/health/guides/disease/adrenoleukodystrophy/overview.htm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www.wrongdiagnosis.com/a/adrenoleukodystrophy/prevalence.ht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The Genetics of Hemophilia and Symptoms: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ly the X chromosome carries the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1a__x001a_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genes related to clotting factor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male who has the abnormal gene on his X chromosome will have i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female must have the abnormal gene on both of her X chromosomes to have it, which is very rar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ymptoms are excessive bleeding, bleeding in the joints, and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the brai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ose who have severe hemophilia may bleed spontaneously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entury Gothic"/>
              </a:rPr>
              <a:t>Some Facts about Hemophilia: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bout 18,000 people in the U.S. have it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400 babies are born with the disorder every yea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s disorder usually occurs in mal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4952880"/>
            <a:ext cx="2428920" cy="15829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roblems Person Has Because of the Disease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Century Gothic"/>
                <a:hlinkClick r:id="rId2"/>
              </a:rPr>
              <a:t>Hemophili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y are unable to control blood clotting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867280" y="3828960"/>
            <a:ext cx="2913120" cy="2183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09480" y="3921120"/>
            <a:ext cx="4038840" cy="2682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reatment and Prognosi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reatment cent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void Ibuprof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ay away from sharp corn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ood lifestyle, almost norm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,681 deaths per yea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35840" y="2286000"/>
            <a:ext cx="2052720" cy="27972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drenoleukodystrophy (ALD)-Genetics of Disease and Symptoms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s disorder is an X-linked genetic trait.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oss weight, hearing loss, hyper activity, and swallowing difficulti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3352680"/>
            <a:ext cx="3810240" cy="2276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267080" y="4267080"/>
            <a:ext cx="3557880" cy="2295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ome Fact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 in 20,000 people suffer from ALD of all rac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ostly males have this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2495520" cy="298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638680" y="3657600"/>
            <a:ext cx="25844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Problems Person Has Because of ALD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body is unable to break down certain fat molecul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Verdana"/>
                <a:hlinkClick r:id="rId2"/>
              </a:rPr>
              <a:t>AL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438280" y="2971800"/>
            <a:ext cx="4724640" cy="37782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reatment and Prognosi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hysical therapy, psychological support, special education, Lorenzo's oil, and steroids are all treatments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eath usually occurs 1-10 years after the onset of symptom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8:28:19Z</dcterms:created>
  <dc:creator>Student</dc:creator>
  <dc:description/>
  <dc:language>en-US</dc:language>
  <cp:lastModifiedBy>Student</cp:lastModifiedBy>
  <dcterms:modified xsi:type="dcterms:W3CDTF">2009-06-29T19:09:13Z</dcterms:modified>
  <cp:revision>4</cp:revision>
  <dc:subject/>
  <dc:title>Hemophilia and ALD</dc:title>
</cp:coreProperties>
</file>