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D43-49DF-4F26-82C0-05EA9244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B99-A524-42F5-8078-B2210AD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412-8A28-4AD4-87A9-7A167102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539-3BBF-4662-BE17-EB12B32D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23D-D3F8-458A-B7AD-CC36B8D8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7D3C-B768-46F5-984F-588F388C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9EA-1743-4AD9-9ED3-B727B859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786-C5C0-444A-9495-82905B6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0675-EEFC-4F9F-B80E-9D315FF3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16FA-1292-4339-BA19-1D830079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BB26-900A-4816-BDDA-946DA3A1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D67-9C0E-4BB6-B172-19882A5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E27B-50F8-41B3-AFD0-F219F45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8626-8D4B-42E0-9CD3-DB11DB8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84BB-742F-46B3-8EEC-D7C63A23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FDEF-3DF7-4E8E-82A5-80E708B8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4464-8196-45DC-9E19-1AFFEED2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A8B-5F8C-4FDD-9E26-6A2AD13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42D-362D-4E1A-A75A-6FABA5D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859-31F0-4B61-8111-A1996608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F46-0AC6-4D3C-B025-75CDED2D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F1F-27C6-4059-9951-9420E028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6C7-D369-4A3C-BC23-4D693B09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8B8-2CC7-4339-B2AE-1EBB442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8DDB-7E29-4AD8-9503-0102949F963F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E794-A45B-4E7A-AF55-FB44199D5DBB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0ZoEGnTAM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xkylRxJxh8&amp;feature=relate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emophilia and AL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: Maricela Navarro, Essance War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&amp; Asia Thoma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we all di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sance found the information on the ALD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icela found the information on the hemophilia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ia  put the information together on the power poin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www.youtube.com/watch?v=CxkylRxJxh8&amp;feature=rela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ww.umm.edu/ency/article/001182trt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youtube.com/watch?v=F0ZoEGnTAM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health.nytimes.com/health/guides/disease/adrenoleukodystrophy/overview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wrongdiagnosis.com/a/adrenoleukodystrophy/prevalence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The Genetics of Hemophilia and Symptoms: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ly the X chromosome carries the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_x001a_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enes related to clotting factor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male who has the abnormal gene on his X chromosome will have 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female must have the abnormal gene on both of her X chromosomes to have it, which is very ra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mptoms are excessive bleeding, bleeding in the joints, an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the br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who have severe hemophilia may bleed spontaneously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Some Facts about Hemophilia: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bout 18,000 people in the U.S. have it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00 babies are born with the disorder every yea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disorder usually occurs in ma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242892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oblems Person Has Because of the Diseas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Hemophili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unable to control blood clotting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67280" y="3828960"/>
            <a:ext cx="2913120" cy="218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3921120"/>
            <a:ext cx="40388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reatment cen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Ibuprof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y away from sharp corn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od lifestyle, almost norm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,681 deaths per ye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86000"/>
            <a:ext cx="20527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drenoleukodystrophy (ALD)-Genetics of Disease and Symptom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disorder is an X-linked genetic trait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ss weight, hearing loss, hyper activity, and swallowing difficul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355788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 in 20,000 people suffer from ALD of all rac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ostly males have this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2495520" cy="298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3657600"/>
            <a:ext cx="2584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blems Person Has Because of AL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ody is unable to break down certain fat molecu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A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472464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hysical therapy, psychological support, special education, Lorenzo's oil, and steroids are all treatment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ath usually occurs 1-10 years after the onset of sympto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28:19Z</dcterms:created>
  <dc:creator>Student</dc:creator>
  <dc:description/>
  <dc:language>en-US</dc:language>
  <cp:lastModifiedBy>Student</cp:lastModifiedBy>
  <dcterms:modified xsi:type="dcterms:W3CDTF">2009-06-29T19:09:13Z</dcterms:modified>
  <cp:revision>4</cp:revision>
  <dc:subject/>
  <dc:title>Hemophilia and ALD</dc:title>
</cp:coreProperties>
</file>