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91A-EB32-4CD1-B1AE-61169C30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FC8-B636-4C4E-BE6E-274A11B3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E88-2D94-43C8-8AA1-E3AA85F4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A26-AA3F-41B0-AE86-CE30CDE4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B79A-A96D-453A-9159-8A98691E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5A8D-C6CC-4697-A0D0-4BF8ABC4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EA34-75CB-4535-978C-A6396F84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5CE5-92D9-45E7-852B-08BFDDAD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3B22-403C-4F45-9353-B23C1B39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6FA0-7D0D-42C8-BA51-4698997B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6424-B17F-45DD-9968-52082418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D66-E8BE-4989-AE84-702D71D1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E955-33CE-4D67-9CC3-1275590A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FA30-B172-44A7-B547-823DB175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6EC1-0DE3-4B99-A541-FB25824E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0D34-832C-4C6C-B301-5DDC8972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FF47-E26C-46BF-85AD-D96FA9FB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41CE-CD4F-417F-8284-520CA540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D1F6-B6E8-44FC-A46F-E2671731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7E2D-F922-420D-99E0-D1E0FCCB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0A2-FD57-4EE0-BBB9-F7410FDD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4E7-68E3-4BFF-9E55-F35C61F2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2B0-CEE9-4639-B01A-20C916CE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67A-ECD5-4AC7-937B-7C4C7B29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F1E5-B085-425D-99BD-C2353CD91016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9309-01FD-4961-B6D5-065CB19D8CF0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F0ZoEGnTAM0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CxkylRxJxh8&amp;feature=relate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Hemophilia and ALD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4267080"/>
            <a:ext cx="5562720" cy="1524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y: Maricela Navarro, Essance War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&amp; Asia Thoma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we all did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ssance found the information on the ALD disord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Maricela found the information on the hemophilia disord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sia  put the information together on the power point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ource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ttp://www.youtube.com/watch?v=CxkylRxJxh8&amp;feature=relate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www.umm.edu/ency/article/001182trt.ht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entury Gothic"/>
              </a:rPr>
              <a:t>http://www.youtube.com/watch?v=F0ZoEGnTAM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entury Gothic"/>
              </a:rPr>
              <a:t>http://health.nytimes.com/health/guides/disease/adrenoleukodystrophy/overview.htm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entury Gothic"/>
              </a:rPr>
              <a:t>http://www.wrongdiagnosis.com/a/adrenoleukodystrophy/prevalence.ht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The Genetics of Hemophilia and Symptoms: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nly the X chromosome carries the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 W3"/>
              </a:rPr>
              <a:t>_x001a__x001a_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genes related to clotting factor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male who has the abnormal gene on his X chromosome will have i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female must have the abnormal gene on both of her X chromosomes to have it, which is very rar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ymptoms are excessive bleeding, bleeding in the joints, and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 the brai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ose who have severe hemophilia may bleed spontaneously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entury Gothic"/>
              </a:rPr>
              <a:t>Some Facts about Hemophilia:</a:t>
            </a:r>
            <a:endParaRPr b="0" lang="en-US" sz="3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bout 18,000 people in the U.S. have it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400 babies are born with the disorder every yea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s disorder usually occurs in male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4952880"/>
            <a:ext cx="2428920" cy="15829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Problems Person Has Because of the Disease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Century Gothic"/>
                <a:hlinkClick r:id="rId2"/>
              </a:rPr>
              <a:t>Hemophilia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y are unable to control blood clotting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867280" y="3828960"/>
            <a:ext cx="2913120" cy="2183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09480" y="3921120"/>
            <a:ext cx="4038840" cy="26827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reatment and Prognosi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reatment center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void Ibuprof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tay away from sharp corner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Good lifestyle, almost norm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1,681 deaths per yea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35840" y="2286000"/>
            <a:ext cx="2052720" cy="27972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drenoleukodystrophy (ALD)-Genetics of Disease and Symptoms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s disorder is an X-linked genetic trait.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oss weight, hearing loss, hyper activity, and swallowing difficultie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2280" y="3352680"/>
            <a:ext cx="3810240" cy="2276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267080" y="4267080"/>
            <a:ext cx="3557880" cy="22957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ome Fact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1 in 20,000 people suffer from ALD of all race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Mostly males have this disord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2495520" cy="2981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638680" y="3657600"/>
            <a:ext cx="258444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Problems Person Has Because of ALD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body is unable to break down certain fat molecule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Verdana"/>
                <a:hlinkClick r:id="rId2"/>
              </a:rPr>
              <a:t>AL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438280" y="2971800"/>
            <a:ext cx="4724640" cy="37782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reatment and Prognosi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hysical therapy, psychological support, special education, Lorenzo's oil, and steroids are all treatments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eath usually occurs 1-10 years after the onset of symptom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8:28:19Z</dcterms:created>
  <dc:creator>Student</dc:creator>
  <dc:description/>
  <dc:language>en-US</dc:language>
  <cp:lastModifiedBy>Student</cp:lastModifiedBy>
  <dcterms:modified xsi:type="dcterms:W3CDTF">2009-06-29T19:09:13Z</dcterms:modified>
  <cp:revision>4</cp:revision>
  <dc:subject/>
  <dc:title>Hemophilia and ALD</dc:title>
</cp:coreProperties>
</file>