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8F2-0568-424E-8471-DD9133DA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144-9363-4379-AA64-6E8E00C0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26D-52DE-4876-BC8F-F9033148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B83-0433-4411-ACC0-7EFA312C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C7E-FA7F-47D7-8CCC-109718AA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9BB8-82A5-492D-907B-F2514F0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A4B5-8587-4670-A7BA-647EE44F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27AC-3D54-4E69-9EA0-3220F1B1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0592-1E66-4A7E-B795-A1CA9D44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81D5-3429-440D-88E8-6769F6D8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7CE6-F41F-49A8-AC2C-16F87AB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42E-8453-4B99-87AE-0A02B0B8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A86F-9886-4AAA-B42E-F9DD066B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4C4F-CBEA-4192-829F-666ED05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BF65-F230-4DF0-989F-59F0C4CC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3A5-E08D-4FCD-BD6E-AF95DD1F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47C7-4448-4FAA-B575-F9C43120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126-C77B-4147-8B70-DB07E807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433-C338-4876-9ECB-CD4D13C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F47-AD42-4158-9E0B-EFE06F50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268-721F-4762-83A1-6CCD6AD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7DA-BBB8-409E-9DD9-759A914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575-6F62-49E9-885E-2E1B6E1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FB4-D88E-4D01-B3E4-C16BC1C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308F-9144-4EA1-97A9-E646403A8D7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7F1A-2414-4065-8D63-A8EBD2D09423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uro.uoregon.edu/k12/FAQs.html#Originat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588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791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70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00800" y="475776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mine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h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609480"/>
            <a:ext cx="4419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Zebrafish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0" name="ShockwaveFlash1"/>
          <p:cNvGraphicFramePr/>
          <p:nvPr/>
        </p:nvGraphicFramePr>
        <p:xfrm>
          <a:off x="609480" y="137160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31520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Ita"/>
              </a:rPr>
              <a:t>Contributes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nah- Looked up the current research/vide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Jasmine- Looked up the history behind the zebrafish/pictur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hael- Looked up zebrafish in general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  <a:hlinkClick r:id="rId1"/>
              </a:rPr>
              <a:t>http://www.neuro.uoregon.edu/k12/FAQs.html#Origina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ttp://www.sciencedaily.com/releases.ht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in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Are Zebrafish??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esh water fish found in slow strea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eat smaller living organism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get eaten by bigger fish, small amphibians, mammals, or bir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12408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that are inbred usually have a 60-85% survival rate which is some what fair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common names would be Zebra danis or  stripped dani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" descr="Go to fullsize image"/>
          <p:cNvPicPr/>
          <p:nvPr/>
        </p:nvPicPr>
        <p:blipFill>
          <a:blip r:embed="rId1"/>
          <a:stretch/>
        </p:blipFill>
        <p:spPr>
          <a:xfrm>
            <a:off x="4495680" y="236232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1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nomial name is Danio Rerio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iginally from the Ganges River in East India and Burma and also found in rice patti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21120" y="2286000"/>
            <a:ext cx="3630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arly studies in zebra fish were limited by the lack of genomic resour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zebra fish has been a model organism for the last 15 yea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 of the Cyprinidea fami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1970, George Streisinger was the first to use zebra fish for a genetic analysis of vertebrate developmen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also was the first to clone the zebrafis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search on Zebrafish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have particular characteristics that make it very suitable for genetic research on embryo developmen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has led to an explosion of interest in zebrafish research in the last 10 yea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embryos develop extremely rapidly - from the one cell stage to hatching of  the tiny fish takes 48 hou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s research in Zebrafish has potential to reduce birth defects In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injecting a customized "genetic patch" into early stage fish embryos, researchers at Washington University School of Medicine in St. Louis were able to correct a genetic mutation so the embryos developed normal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research could lead to the prevention of up to one-fifth of birth defects in humans caused by genetic muta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00:36Z</dcterms:created>
  <dc:creator>Student</dc:creator>
  <dc:description/>
  <dc:language>en-US</dc:language>
  <cp:lastModifiedBy>College of Science</cp:lastModifiedBy>
  <dcterms:modified xsi:type="dcterms:W3CDTF">2009-06-29T19:16:46Z</dcterms:modified>
  <cp:revision>4</cp:revision>
  <dc:subject/>
  <dc:title>PowerPoint Presentation</dc:title>
</cp:coreProperties>
</file>