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3A4-74E3-442A-B446-2D4C42AC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498-0CAF-4502-BACF-3756AE60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C97-3172-4762-AE79-D41E4960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FDF-E69B-41C0-B75C-7AC0190E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06B7-C0A7-4B11-8DA2-7B011704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134C-BC7E-4FC1-9BC0-D506F19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171E-BCA9-4AF1-9E80-77497A0A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D553-A98F-4D0F-A7E2-DA1FC468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A4D2-879A-4105-AAD8-098E6FF6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F877-CD59-4C2E-A03F-289DCDFC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195C-BF6F-4B44-8F00-6010087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C90-284C-415D-9BC4-318E96F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1487-D312-4EC1-9F88-B5D105F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0EF6-E705-456D-8C2A-B3D7E5D9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0F08-3A11-486C-B44B-5BC8ED80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28D1-F710-4018-BA5A-270F135A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5B5-7A36-4152-978C-972FC812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E3D-8034-4550-AA62-B6CEAFF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047-00CA-4A2C-B948-93F60913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F6A-764D-4CD5-806C-28DE4AD6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AE9-24CF-42BD-959C-9A910D23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1F1-BCFF-4174-80C3-F219BE7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7CD-B1AE-412F-A96F-F1A2B178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E10-BDC1-4AD5-AC49-9E572864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EF8F-A799-4710-B03F-36A313E3358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3F40-BC81-44C5-8BCD-932C7CA50F9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uro.uoregon.edu/k12/FAQs.html#Originat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588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791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70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00800" y="475776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mine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h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609480"/>
            <a:ext cx="4419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Zebrafish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0" name="ShockwaveFlash1"/>
          <p:cNvGraphicFramePr/>
          <p:nvPr/>
        </p:nvGraphicFramePr>
        <p:xfrm>
          <a:off x="609480" y="1371600"/>
          <a:ext cx="7315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31520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SvtyTwo ITC TT-BookIta"/>
              </a:rPr>
              <a:t>Contributes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nah- Looked up the current research/vide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Jasmine- Looked up the history behind the zebrafish/pictur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chael- Looked up zebrafish in general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  <a:hlinkClick r:id="rId1"/>
              </a:rPr>
              <a:t>http://www.neuro.uoregon.edu/k12/FAQs.html#Origina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ttp://www.sciencedaily.com/releases.ht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in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Are Zebrafish??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esh water fish found in slow strea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eat smaller living organism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get eaten by bigger fish, small amphibians, mammals, or bird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12408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that are inbred usually have a 60-85% survival rate which is some what fair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common names would be Zebra danis or  stripped dani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" descr="Go to fullsize image"/>
          <p:cNvPicPr/>
          <p:nvPr/>
        </p:nvPicPr>
        <p:blipFill>
          <a:blip r:embed="rId1"/>
          <a:stretch/>
        </p:blipFill>
        <p:spPr>
          <a:xfrm>
            <a:off x="4495680" y="236232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1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onomial name is Danio Rerio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iginally from the Ganges River in East India and Burma and also found in rice patti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21120" y="2286000"/>
            <a:ext cx="3630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arly studies in zebra fish were limited by the lack of genomic resourc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zebra fish has been a model organism for the last 15 yea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 of the Cyprinidea famil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1970, George Streisinger was the first to use zebra fish for a genetic analysis of vertebrate development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e also was the first to clone the zebrafis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search on Zebrafish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 have particular characteristics that make it very suitable for genetic research on embryo developmen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has led to an explosion of interest in zebrafish research in the last 10 yea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 embryos develop extremely rapidly - from the one cell stage to hatching of  the tiny fish takes 48 hou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pull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tics research in Zebrafish has potential to reduce birth defects In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injecting a customized "genetic patch" into early stage fish embryos, researchers at Washington University School of Medicine in St. Louis were able to correct a genetic mutation so the embryos developed normal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pull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research could lead to the prevention of up to one-fifth of birth defects in humans caused by genetic mutat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00:36Z</dcterms:created>
  <dc:creator>Student</dc:creator>
  <dc:description/>
  <dc:language>en-US</dc:language>
  <cp:lastModifiedBy>College of Science</cp:lastModifiedBy>
  <dcterms:modified xsi:type="dcterms:W3CDTF">2009-06-29T19:16:46Z</dcterms:modified>
  <cp:revision>4</cp:revision>
  <dc:subject/>
  <dc:title>PowerPoint Presentation</dc:title>
</cp:coreProperties>
</file>