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C90E-5AD8-4AD7-978B-849F74D7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BA7C-22CF-4A2F-99A9-43FD2D2D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142F-3334-4318-8103-47495FAC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38E7-7B41-4352-95FB-842313FE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95E5-685F-4419-A491-23125A0C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C88D-AB7B-4C8E-A139-3A17B95A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ED07-DE1B-4CC8-A908-8EC2E738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4D5C-0E65-457A-A6AD-4654DDF6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C4C1-9E4A-4A39-B704-906097EC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2D8B-5893-4FC3-A428-88C31848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A5F3-5735-4F6A-8572-F21673D9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5983-209A-41EA-AFCA-4FB216C8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D40F-4137-4C27-8477-B0561EF0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FEF7-0450-4BE0-B6F2-01E4B820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2711-08EA-4FE7-AD9C-EB80D8DB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C0DC-9714-4B7E-8C9C-AC3BDFA7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A0C1-F7F8-481B-8386-2A42CCD7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399C-64EB-4EAC-87B9-F3AF56E5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6868-9EE7-463E-A461-FB8DA4DC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75AC-C2C5-465A-B5D7-5C6886CC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C0B6-83E1-4BB4-875B-9B474345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1F90-8F12-4908-826A-540130CD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DA3B-B6A9-4DD1-B3C7-E0C31F1E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3845-1577-402A-B441-3F4F8C06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83280" indent="-26280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51560" indent="-21024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72040" indent="-21024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92520" indent="-21024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CAD6-5185-4D2D-91BB-0201F1A1B45C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705E-CDAF-4008-B0F6-7DC3168D18A1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euro.uoregon.edu/k12/FAQs.html#Originate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588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57913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708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400800" y="4757760"/>
            <a:ext cx="2743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smine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ah 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14600" y="609480"/>
            <a:ext cx="4419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Zebrafish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10" name="ShockwaveFlash1"/>
          <p:cNvGraphicFramePr/>
          <p:nvPr/>
        </p:nvGraphicFramePr>
        <p:xfrm>
          <a:off x="609480" y="1371600"/>
          <a:ext cx="7315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315200" cy="4876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SvtyTwo ITC TT-BookIta"/>
              </a:rPr>
              <a:t>Contributes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nah- Looked up the current research/video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Jasmine- Looked up the history behind the zebrafish/pictur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ichael- Looked up zebrafish in general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ources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entury Gothic"/>
                <a:hlinkClick r:id="rId1"/>
              </a:rPr>
              <a:t>http://www.neuro.uoregon.edu/k12/FAQs.html#Originat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ttp://www.sciencedaily.com/releases.htm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plit dir="in" orient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What Are Zebrafish??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resh water fish found in slow stream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y eat smaller living organism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y get eaten by bigger fish, small amphibians, mammals, or bird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257800" y="2590920"/>
            <a:ext cx="312408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.cont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ose that are inbred usually have a 60-85% survival rate which is some what fair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me common names would be Zebra danis or  stripped danio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3" name="" descr="Go to fullsize image"/>
          <p:cNvPicPr/>
          <p:nvPr/>
        </p:nvPicPr>
        <p:blipFill>
          <a:blip r:embed="rId1"/>
          <a:stretch/>
        </p:blipFill>
        <p:spPr>
          <a:xfrm>
            <a:off x="4495680" y="2362320"/>
            <a:ext cx="374328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11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ionomial name is Danio Rerio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riginally from the Ganges River in East India and Burma and also found in rice patti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21120" y="2286000"/>
            <a:ext cx="36306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.cont.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arly studies in zebra fish were limited by the lack of genomic resourc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zebra fish has been a model organism for the last 15 year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art of the Cyprinidea famil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 1970, George Streisinger was the first to use zebra fish for a genetic analysis of vertebrate development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e also was the first to clone the zebrafish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over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Research on Zebrafish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Zebrafish have particular characteristics that make it very suitable for genetic research on embryo developmen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s has led to an explosion of interest in zebrafish research in the last 10 years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Zebrafish embryos develop extremely rapidly - from the one cell stage to hatching of  the tiny fish takes 48 hour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pull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..cont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enetics research in Zebrafish has potential to reduce birth defects In huma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y injecting a customized "genetic patch" into early stage fish embryos, researchers at Washington University School of Medicine in St. Louis were able to correct a genetic mutation so the embryos developed normally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pull dir="r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e4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.cont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research could lead to the prevention of up to one-fifth of birth defects in humans caused by genetic mutatio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trips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5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8:00:36Z</dcterms:created>
  <dc:creator>Student</dc:creator>
  <dc:description/>
  <dc:language>en-US</dc:language>
  <cp:lastModifiedBy>College of Science</cp:lastModifiedBy>
  <dcterms:modified xsi:type="dcterms:W3CDTF">2009-06-29T19:16:46Z</dcterms:modified>
  <cp:revision>4</cp:revision>
  <dc:subject/>
  <dc:title>PowerPoint Presentation</dc:title>
</cp:coreProperties>
</file>