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ECE-485B-40B0-A013-33F0A128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FFE-9DC4-41A1-9097-5264B26E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E56-04EB-478B-9054-ED04CEA3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7C1-0489-4D49-B972-66DD2ACB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9017-D3AA-43A2-BBAB-1A8168BF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90A8-6A92-450B-8A98-5C3BAE19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25DF-39BA-4E68-B0EB-35EE8F28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BD2-325B-40AF-B3A1-445078DF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1183-0A38-4215-B2EA-D1DAC23C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7647-7568-45BF-A335-EFF19026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7FFE-B87E-4F0D-80CE-9B553A8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C0A-C617-4A0D-9A6E-9B155F66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F5F1-5A53-4D61-A53F-37BD001E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8CA8-76BE-4621-A390-7B3A04C5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4427-532F-461D-B0A5-2EAA4F46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1D10-39D2-4348-85F8-5BA59830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DD2B-6B55-4C60-BA2C-D3A23B09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162-CE0F-46C4-845B-48595FB2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CA8-6826-4D1D-B029-7BB03C89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D9B-B9A8-45A1-B769-6E24D469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D5B-A0BB-4A60-A023-32C1F525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4A7-01A2-4CC6-9CD9-2792077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09B-6DA8-4346-8BB3-5042D98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429-7FC6-47DC-8240-69F6FD3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0B42-5880-49A8-9D39-F53BF794264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FD6-0895-43E1-B06B-68410FF3504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uro.uoregon.edu/k12/FAQs.html#Originat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588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791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70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00800" y="475776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mine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h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609480"/>
            <a:ext cx="4419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Zebrafish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0" name="ShockwaveFlash1"/>
          <p:cNvGraphicFramePr/>
          <p:nvPr/>
        </p:nvGraphicFramePr>
        <p:xfrm>
          <a:off x="609480" y="1371600"/>
          <a:ext cx="7315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315200" cy="487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SvtyTwo ITC TT-BookIta"/>
              </a:rPr>
              <a:t>Contributes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nah- Looked up the current research/vide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Jasmine- Looked up the history behind the zebrafish/pictur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chael- Looked up zebrafish in general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  <a:hlinkClick r:id="rId1"/>
              </a:rPr>
              <a:t>http://www.neuro.uoregon.edu/k12/FAQs.html#Originat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ttp://www.sciencedaily.com/releases.ht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in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Are Zebrafish??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esh water fish found in slow strea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eat smaller living organism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get eaten by bigger fish, small amphibians, mammals, or bird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12408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that are inbred usually have a 60-85% survival rate which is some what fair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common names would be Zebra danis or  stripped dani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" descr="Go to fullsize image"/>
          <p:cNvPicPr/>
          <p:nvPr/>
        </p:nvPicPr>
        <p:blipFill>
          <a:blip r:embed="rId1"/>
          <a:stretch/>
        </p:blipFill>
        <p:spPr>
          <a:xfrm>
            <a:off x="4495680" y="2362320"/>
            <a:ext cx="37432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11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ionomial name is Danio Rerio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iginally from the Ganges River in East India and Burma and also found in rice patti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21120" y="2286000"/>
            <a:ext cx="36306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arly studies in zebra fish were limited by the lack of genomic resourc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zebra fish has been a model organism for the last 15 yea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 of the Cyprinidea famil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1970, George Streisinger was the first to use zebra fish for a genetic analysis of vertebrate development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e also was the first to clone the zebrafis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search on Zebrafish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 have particular characteristics that make it very suitable for genetic research on embryo developmen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has led to an explosion of interest in zebrafish research in the last 10 yea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 embryos develop extremely rapidly - from the one cell stage to hatching of  the tiny fish takes 48 hou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pull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tics research in Zebrafish has potential to reduce birth defects In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injecting a customized "genetic patch" into early stage fish embryos, researchers at Washington University School of Medicine in St. Louis were able to correct a genetic mutation so the embryos developed normall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pull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research could lead to the prevention of up to one-fifth of birth defects in humans caused by genetic mutat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00:36Z</dcterms:created>
  <dc:creator>Student</dc:creator>
  <dc:description/>
  <dc:language>en-US</dc:language>
  <cp:lastModifiedBy>College of Science</cp:lastModifiedBy>
  <dcterms:modified xsi:type="dcterms:W3CDTF">2009-06-29T19:16:46Z</dcterms:modified>
  <cp:revision>4</cp:revision>
  <dc:subject/>
  <dc:title>PowerPoint Presentation</dc:title>
</cp:coreProperties>
</file>