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CEB-39AB-4973-BB67-D2898E54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F5F-264C-47A5-868A-E413BA5F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99D-9AD3-41D0-8981-4F23B27C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A4E-D4D5-4638-844A-4DA0926E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E6B-B9C0-4333-B517-C5ECED36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E75-C9EC-46E4-B872-EE2993E7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C60-8E18-4F64-B79F-13B0CB1A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67C-3938-4040-894B-46A0F34E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EC35-9FC0-4F0D-B5D7-B80E6D43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275-ED44-44A7-834E-6540BE47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6BB-1C9B-495D-8725-E3DBC4ED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536-6F5F-4508-9ADD-D2E1BC33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016E-FF47-49E7-9B2E-33F70152E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phil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oleukodystrophy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ana Thom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Quan Lunf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’Rese Co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es or Drugs to help with the disabi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2508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ophilia is a genetic disorder that often results in excessive bleeding. It can be mild or severe. It can also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to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ive bl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ive bru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bl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e bl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33530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133720"/>
            <a:ext cx="464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2514600"/>
            <a:ext cx="46479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s get hemoph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people in the U.S. were diagn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male babies were born with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2670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762120"/>
            <a:ext cx="327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2 types of hemoph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mophili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mophili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out if 10 males get hemophilia 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914400"/>
            <a:ext cx="3886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cause by inherited tra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ales develop it during an ill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event hemophilia women or males who carry the trait can choose to not hav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way is to prevent from any workouts or sports that can bruise or harm y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isorder is something that is stuck wit you forever. The only way to prevent anything from happening is to be car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renoleukodystroph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 is an x-linked metabolic dis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rain function dec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the sheath, neurons can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action potential which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neurons stop telling the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central nervous system what to 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293184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Continu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ffect 100,000 people ever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nly affects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sex linked on the X-chromos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during the ages of 4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d to disabilities or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38800" y="1447920"/>
            <a:ext cx="2517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f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 Swa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skin pi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Dement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30:00Z</dcterms:created>
  <dc:creator>College of Science</dc:creator>
  <dc:description/>
  <dc:language>en-US</dc:language>
  <cp:lastModifiedBy>College of Science</cp:lastModifiedBy>
  <dcterms:modified xsi:type="dcterms:W3CDTF">2009-06-29T21:29:38Z</dcterms:modified>
  <cp:revision>4</cp:revision>
  <dc:subject/>
  <dc:title>Hemophilia and Adrenoleukodystrophy</dc:title>
</cp:coreProperties>
</file>