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FFE-6809-4054-A288-C8B65163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D68-618F-46FE-9DAA-2FBAC673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365-705E-4F78-9A57-EDDDD2EE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5A0-2078-4CCB-AC35-648F7E0E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1FC-F2AA-4123-8A7D-54563679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E97-7ACF-43A9-80F8-1367F2F9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E9F-6E45-49A6-B311-A6E0E4F3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64B-2642-42FD-B5EB-6225A2C4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C3C-BDD0-4FAA-BB69-A0343A2F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04F-60AB-45CA-9917-9DCFCCDB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53F-928C-43C7-9D2B-AA29551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B35-D91D-4261-BE4F-75FB5B51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7FB0-DA28-43FB-8F42-F82DBB202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oleukodystrophy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ana Thom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Quan Lunf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’Rese 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es or Drugs to help with the disabi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50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ophilia is a genetic disorder that often results in excessive bleeding. It can be mild or severe. It can also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to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ive bru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bl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e bl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3530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13372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514600"/>
            <a:ext cx="46479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 get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people in the U.S. were diagn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male babies were born with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267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762120"/>
            <a:ext cx="327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 types of hemoph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mophili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out if 10 males get hemophilia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914400"/>
            <a:ext cx="3886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cause by inherited tra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ales develop it during an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vent hemophilia women or males who carry the trait can choose to not hav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way is to prevent from any workouts or sports that can bruise or harm y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sorder is something that is stuck wit you forever. The only way to prevent anything from happening is to be car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renoleukodystroph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 is an x-linked metabolic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ain function dec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the sheath, neurons can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action potential which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eurons stop telling the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central nervous system what to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293184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ffect 100,000 people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nly affects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sex linked on the X-chromos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during the ages of 4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disabilities or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38800" y="1447920"/>
            <a:ext cx="2517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f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 Swa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kin pi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Dement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30:00Z</dcterms:created>
  <dc:creator>College of Science</dc:creator>
  <dc:description/>
  <dc:language>en-US</dc:language>
  <cp:lastModifiedBy>College of Science</cp:lastModifiedBy>
  <dcterms:modified xsi:type="dcterms:W3CDTF">2009-06-29T21:29:38Z</dcterms:modified>
  <cp:revision>4</cp:revision>
  <dc:subject/>
  <dc:title>Hemophilia and Adrenoleukodystrophy</dc:title>
</cp:coreProperties>
</file>