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8D9-8552-4790-B1F0-C7582F59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149-C9BC-45BE-B27F-8657621A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BB9-45E9-40D0-BB57-72850034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C98-A2FD-431D-AFCA-6D633CA0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545D-6637-4E35-920C-6C727F2F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CEB-FE89-4D80-8200-F0B17DE4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BDF-84A8-463F-B4BE-DE074EFC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F4A-B59E-4F8F-87E5-60D731BA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E80-B474-478A-8BE7-396FDA0C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4C3-9AE1-4CAB-A757-D5231525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82B-056F-4251-8D48-FF768966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BD1-3C3C-4B1B-8203-559A83F2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38AF-56D2-4ABD-9EAF-B7DD99665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phil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oleukodystrophy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ana Thom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Quan Lunf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’Rese Co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cal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es or Drugs to help with the disabi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91320" y="1752480"/>
            <a:ext cx="2508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ph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ophilia is a genetic disorder that often results in excessive bleeding. It can be mild or severe. It can also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to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ive bl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ive bru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bl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e bl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33530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133720"/>
            <a:ext cx="4647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2514600"/>
            <a:ext cx="46479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s get hemophi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,000 people in the U.S. were diagn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 male babies were born with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42670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762120"/>
            <a:ext cx="327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2 types of hemophi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emophili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emophili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out if 10 males get hemophilia 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914400"/>
            <a:ext cx="3886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cause by inherited tra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ales develop it during an ill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66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event hemophilia women or males who carry the trait can choose to not hav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way is to prevent from any workouts or sports that can bruise or harm y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isorder is something that is stuck wit you forever. The only way to prevent anything from happening is to be care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renoleukodystroph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L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 is an x-linked metabolic dis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rain function dec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the sheath, neurons can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action potential which m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neurons stop telling the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central nervous system what to 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293184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Continu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ffect 100,000 people every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nly affects b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’s sex linked on the X-chromos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s during the ages of 4-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ead to disabilities or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38800" y="1447920"/>
            <a:ext cx="2517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iz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f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 Swa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skin pi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io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Dement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0:30:00Z</dcterms:created>
  <dc:creator>College of Science</dc:creator>
  <dc:description/>
  <dc:language>en-US</dc:language>
  <cp:lastModifiedBy>College of Science</cp:lastModifiedBy>
  <dcterms:modified xsi:type="dcterms:W3CDTF">2009-06-29T21:29:38Z</dcterms:modified>
  <cp:revision>4</cp:revision>
  <dc:subject/>
  <dc:title>Hemophilia and Adrenoleukodystrophy</dc:title>
</cp:coreProperties>
</file>