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D41-79FA-4396-B391-C25E0090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55E-3640-4CC2-85A2-80B4BC03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646-AE69-47B0-BC16-156963DD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11A-4BFD-4A15-BF22-66709E00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73B-3040-46A7-A633-AEBE5F8D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C8B-966A-40AB-80F8-860DC888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944-FC8A-4E7C-95BC-F0CA9F35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38C-889A-4982-AAC2-6971AC44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267-5DDC-4C9C-A2BD-EAF01D06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1F6-DDA5-4BB0-962B-A3825CF8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A62-612F-4246-AF91-77E132E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9E8-2EE1-4830-B423-E118149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3AC5-F7DC-47FF-BFB0-BCBD0BB2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oleukodystrophy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ana Thom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Quan Lunf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’Rese 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es or Drugs to help with the disabi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50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ophilia is a genetic disorder that often results in excessive bleeding. It can be mild or severe. It can also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to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ru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e bl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3530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13372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514600"/>
            <a:ext cx="46479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 get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people in the U.S. were diagn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male babies were born with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267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762120"/>
            <a:ext cx="327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 types of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out if 10 males get hemophilia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914400"/>
            <a:ext cx="3886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cause by inherited tra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ales develop it during an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vent hemophilia women or males who carry the trait can choose to not hav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way is to prevent from any workouts or sports that can bruise or harm y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sorder is something that is stuck wit you forever. The only way to prevent anything from happening is to be car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renoleukodystroph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 is an x-linked metabolic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ain function dec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the sheath, neurons can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action potential which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eurons stop telling the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central nervous system what to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293184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ffect 100,000 people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nly affects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sex linked on the X-chromos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during the ages of 4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disabilities or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38800" y="1447920"/>
            <a:ext cx="2517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f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 Swa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kin pi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Dement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30:00Z</dcterms:created>
  <dc:creator>College of Science</dc:creator>
  <dc:description/>
  <dc:language>en-US</dc:language>
  <cp:lastModifiedBy>College of Science</cp:lastModifiedBy>
  <dcterms:modified xsi:type="dcterms:W3CDTF">2009-06-29T21:29:38Z</dcterms:modified>
  <cp:revision>4</cp:revision>
  <dc:subject/>
  <dc:title>Hemophilia and Adrenoleukodystrophy</dc:title>
</cp:coreProperties>
</file>