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DE1C-773A-44B9-BB56-A3AB7377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B1A9-A036-4487-BE92-AEB0DEF6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F0BE-444F-4A42-A2C6-4AFEC475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2DF3-4F8E-4052-8133-87A13ECC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D0C9-6447-4ADF-99E9-81C22ADE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08CD-2824-4055-9C31-964DBCA2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EAB-7AB5-469D-AC28-CBABA627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AD85-B10C-477B-A55B-CB50875A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2D15-9DE9-4CC4-854A-2AD492A6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0ADE-E616-4F71-A65B-F1C7E7BA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1C6A-25D6-4143-BCCD-E8995167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DBBA-06A1-4015-9D20-D710C164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72AC-9050-4BAE-A9E2-F07B2A21F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F9NIklKYNEAt2yJzbkF;_ylu=X3oDMTBxcmZjanNrBHBvcwMzBHNlYwNzcgR2dGlkA0kxMDlfMTMw/SIG=1fn80qi4n/EXP=1246393293/**http%3A//images.search.yahoo.com/images/view%3Fback=http%253A%252F%252Fimages.search.yahoo.com%252Fsearch%252Fimages%253Fp%253Dzebrafish%2526ei%253DUTF-8%2526fr%253Dyfp-t-501%26w=220%26h=156%26imgurl=www.bio.tamu.edu%252Fbioaquatics%252Fimages%252Fzebrafish3.jpg%26rurl=http%253A%252F%252Fwww.bio.tamu.edu%252Fbioaquatics%252Freszebra.htm%26size=5k%26name=zebrafish3%2Bjpg%26p=zebrafish%26oid=a1f3a402a00db36e%26fr2=%26no=3%26tt=14437%26sigr=11g19c35r%26sigi=11i9lmqju%26sigb=12e7h26tc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rds.yahoo.com/_ylt=A9G_bF9NIklKYNEAtmyJzbkF;_ylu=X3oDMTBxNHBiOGZjBHBvcwMyBHNlYwNzcgR2dGlkA0kxMDlfMTMw/SIG=1h8fo4vl7/EXP=1246393293/**http%3A//images.search.yahoo.com/images/view%3Fback=http%253A%252F%252Fimages.search.yahoo.com%252Fsearch%252Fimages%253Fp%253Dzebrafish%2526ei%253DUTF-8%2526fr%253Dyfp-t-501%26w=350%26h=175%26imgurl=www.scienceahead.com%252Fimages%252Fthe-zebrafish_9.jpg%26rurl=http%253A%252F%252Fwww.scienceahead.com%252Fentry%252Fzebrafishs-novel-genes-critical-in-directing-bodys-patterning%26size=8k%26name=the%2Bzebrafish%2B9%2B...%26p=zebrafish%26oid=7fc8aa18dc8953f6%26fr2=%26no=2%26tt=14437%26sigr=12vlgqqhs%26sigi=11fccmb4t%26sigb=12e7h26tc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F9NIklKYNEAxWyJzbkF;_ylu=X3oDMTByazM1YzhlBHBvcwMxNwRzZWMDc3IEdnRpZANJMTA5XzEzMA--/SIG=1guecg8bc/EXP=1246393293/**http%3A//images.search.yahoo.com/images/view%3Fback=http%253A%252F%252Fimages.search.yahoo.com%252Fsearch%252Fimages%253Fp%253Dzebrafish%2526ei%253DUTF-8%2526fr%253Dyfp-t-501%26w=203%26h=152%26imgurl=newsimg.bbc.co.uk%252Fmedia%252Fimages%252F39337000%252Fjpg%252F_39337590_zebrafish203.jpg%26rurl=http%253A%252F%252Fnews.bbc.co.uk%252F2%252Fhi%252Fhealth%252F3104068.stm%26size=5k%26name=39337590%2Bzebrafi...%26p=zebrafish%26oid=1cd766b85270b52c%26fr2=%26no=17%26tt=14437%26sigr=11deka1a4%26sigi=126ml9c1t%26sigb=12e7h26tc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SbJUlKCRUAL9WJzbkF;_ylu=X3oDMTBxbmdxYWhrBHBvcwM2BHNlYwNzcgR2dGlkA0kxMDlfMTMw/SIG=1g7p841l6/EXP=1246394139/**http%3A//images.search.yahoo.com/images/view%3Fback=http%253A%252F%252Fimages.search.yahoo.com%252Fsearch%252Fimages%253Fp%253Dzebrafish%2526ei%253DUTF-8%2526fr%253Dyfp-t-501%26w=238%26h=178%26imgurl=itn.co.uk%252Fnews%252Fstorya945dd1328445b7a1937be6e27c1d775.jpg%26rurl=http%253A%252F%252Fitn.co.uk%252Fnews%252F6bcb887bf17f7ba52b18551053aedc83.html%26size=7k%26name=storya945dd13284...%26p=zebrafish%26oid=95370906c31cda24%26fr2=%26no=6%26tt=14417%26sigr=11r0p766b%26sigi=11o23bi3f%26sigb=12e7h26tc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9966ff"/>
                </a:solidFill>
                <a:latin typeface="Arial"/>
              </a:rPr>
              <a:t>Zebrafish</a:t>
            </a:r>
            <a:br>
              <a:rPr sz="4800"/>
            </a:br>
            <a:r>
              <a:rPr b="0" lang="en-US" sz="1800" spc="-1" strike="noStrike">
                <a:solidFill>
                  <a:srgbClr val="9966ff"/>
                </a:solidFill>
                <a:latin typeface="Arial"/>
              </a:rPr>
              <a:t>By: Sierra Lee and Chantal Caldwell </a:t>
            </a:r>
            <a:r>
              <a:rPr b="0" lang="en-US" sz="1800" spc="-1" strike="noStrike">
                <a:solidFill>
                  <a:srgbClr val="9966ff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2209680"/>
            <a:ext cx="2666880" cy="1887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3505320"/>
            <a:ext cx="3124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43000" y="5335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bout Zebra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133720"/>
            <a:ext cx="51055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Scientific name Danio Re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Small fish 1.97 inches in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Silvery tinted, gold with five blue horizontal stri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Like slow moving and still water bodies of water such as streams, canals, and p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Native to South Asia and common aquarium 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4724280"/>
            <a:ext cx="190476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Very active, like to swim in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Feed on worms and insect larv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Females are usually larger than males because they are filled with eggs and they don’t usually have gold on under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Males are torpedo shaped and have a gold be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4267080"/>
            <a:ext cx="23623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5791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Zebrafish can hatch up to 400 or 500 eg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Can hatch 20 to 48 hours after spaw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Females lay eggs everyd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Embryos are first transpar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Most Zebrafish eat their eg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Can live up to fiv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251460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Research of Zebra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-51gadR5Q5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464832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A man named George Steisinger discovered that zebrafish is a great model to stu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Zebrafish were originally found in slow streams, rice paddies, and Ganges River in East India and Bur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bra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Dr. Steisinger studied zebrafish to look at human diseases and medic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Zebrafish are also good models to study vertebrate development and gene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191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In class, students can look at Zebrafish and see how they produce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We can also observe how they adapt to an environment other then their 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20:20:01Z</dcterms:created>
  <dc:creator>College of Science</dc:creator>
  <dc:description/>
  <dc:language>en-US</dc:language>
  <cp:lastModifiedBy>College of Science</cp:lastModifiedBy>
  <dcterms:modified xsi:type="dcterms:W3CDTF">2009-06-29T21:26:30Z</dcterms:modified>
  <cp:revision>6</cp:revision>
  <dc:subject/>
  <dc:title> Zebrafish </dc:title>
</cp:coreProperties>
</file>