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C43-9F79-4E11-9B00-C4425B3B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D27-85D5-45EE-8056-FCAD5802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EDC-F72C-4A12-AF20-A788FEC0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8CB-6E12-445A-8BB8-34399A03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386-40CD-4F78-BA4C-8D06B4C0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55A-7501-44CE-9C97-BF77810D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A7A6-E7EF-4450-9361-2AD91396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8AE-8869-407F-8474-FC382034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650-3774-44BD-A6A2-2347B2CE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ABF4-EDD8-4E2F-902F-CD5276E3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392F-E600-46E1-BF32-EEEC43E0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3D66-B350-4E62-A4CC-0986D3B5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78ED-8A62-4877-81EE-1D95EC6A3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F9NIklKYNEAt2yJzbkF;_ylu=X3oDMTBxcmZjanNrBHBvcwMzBHNlYwNzcgR2dGlkA0kxMDlfMTMw/SIG=1fn80qi4n/EXP=1246393293/**http%3A//images.search.yahoo.com/images/view%3Fback=http%253A%252F%252Fimages.search.yahoo.com%252Fsearch%252Fimages%253Fp%253Dzebrafish%2526ei%253DUTF-8%2526fr%253Dyfp-t-501%26w=220%26h=156%26imgurl=www.bio.tamu.edu%252Fbioaquatics%252Fimages%252Fzebrafish3.jpg%26rurl=http%253A%252F%252Fwww.bio.tamu.edu%252Fbioaquatics%252Freszebra.htm%26size=5k%26name=zebrafish3%2Bjpg%26p=zebrafish%26oid=a1f3a402a00db36e%26fr2=%26no=3%26tt=14437%26sigr=11g19c35r%26sigi=11i9lmqju%26sigb=12e7h26tc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ds.yahoo.com/_ylt=A9G_bF9NIklKYNEAtmyJzbkF;_ylu=X3oDMTBxNHBiOGZjBHBvcwMyBHNlYwNzcgR2dGlkA0kxMDlfMTMw/SIG=1h8fo4vl7/EXP=1246393293/**http%3A//images.search.yahoo.com/images/view%3Fback=http%253A%252F%252Fimages.search.yahoo.com%252Fsearch%252Fimages%253Fp%253Dzebrafish%2526ei%253DUTF-8%2526fr%253Dyfp-t-501%26w=350%26h=175%26imgurl=www.scienceahead.com%252Fimages%252Fthe-zebrafish_9.jpg%26rurl=http%253A%252F%252Fwww.scienceahead.com%252Fentry%252Fzebrafishs-novel-genes-critical-in-directing-bodys-patterning%26size=8k%26name=the%2Bzebrafish%2B9%2B...%26p=zebrafish%26oid=7fc8aa18dc8953f6%26fr2=%26no=2%26tt=14437%26sigr=12vlgqqhs%26sigi=11fccmb4t%26sigb=12e7h26tc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F9NIklKYNEAxWyJzbkF;_ylu=X3oDMTByazM1YzhlBHBvcwMxNwRzZWMDc3IEdnRpZANJMTA5XzEzMA--/SIG=1guecg8bc/EXP=1246393293/**http%3A//images.search.yahoo.com/images/view%3Fback=http%253A%252F%252Fimages.search.yahoo.com%252Fsearch%252Fimages%253Fp%253Dzebrafish%2526ei%253DUTF-8%2526fr%253Dyfp-t-501%26w=203%26h=152%26imgurl=newsimg.bbc.co.uk%252Fmedia%252Fimages%252F39337000%252Fjpg%252F_39337590_zebrafish203.jpg%26rurl=http%253A%252F%252Fnews.bbc.co.uk%252F2%252Fhi%252Fhealth%252F3104068.stm%26size=5k%26name=39337590%2Bzebrafi...%26p=zebrafish%26oid=1cd766b85270b52c%26fr2=%26no=17%26tt=14437%26sigr=11deka1a4%26sigi=126ml9c1t%26sigb=12e7h26tc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SbJUlKCRUAL9WJzbkF;_ylu=X3oDMTBxbmdxYWhrBHBvcwM2BHNlYwNzcgR2dGlkA0kxMDlfMTMw/SIG=1g7p841l6/EXP=1246394139/**http%3A//images.search.yahoo.com/images/view%3Fback=http%253A%252F%252Fimages.search.yahoo.com%252Fsearch%252Fimages%253Fp%253Dzebrafish%2526ei%253DUTF-8%2526fr%253Dyfp-t-501%26w=238%26h=178%26imgurl=itn.co.uk%252Fnews%252Fstorya945dd1328445b7a1937be6e27c1d775.jpg%26rurl=http%253A%252F%252Fitn.co.uk%252Fnews%252F6bcb887bf17f7ba52b18551053aedc83.html%26size=7k%26name=storya945dd13284...%26p=zebrafish%26oid=95370906c31cda24%26fr2=%26no=6%26tt=14417%26sigr=11r0p766b%26sigi=11o23bi3f%26sigb=12e7h26tc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9966ff"/>
                </a:solidFill>
                <a:latin typeface="Arial"/>
              </a:rPr>
              <a:t>Zebrafish</a:t>
            </a:r>
            <a:br>
              <a:rPr sz="4800"/>
            </a:br>
            <a:r>
              <a:rPr b="0" lang="en-US" sz="1800" spc="-1" strike="noStrike">
                <a:solidFill>
                  <a:srgbClr val="9966ff"/>
                </a:solidFill>
                <a:latin typeface="Arial"/>
              </a:rPr>
              <a:t>By: Sierra Lee and Chantal Caldwell </a:t>
            </a:r>
            <a:r>
              <a:rPr b="0" lang="en-US" sz="1800" spc="-1" strike="noStrike">
                <a:solidFill>
                  <a:srgbClr val="9966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209680"/>
            <a:ext cx="2666880" cy="1887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3505320"/>
            <a:ext cx="3124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43000" y="5335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bout Zebra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133720"/>
            <a:ext cx="51055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Scientific name Danio Re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Small fish 1.97 inches in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Silvery tinted, gold with five blue horizontal str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Like slow moving and still water bodies of water such as streams, canals, and p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Native to South Asia and common aquarium 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4724280"/>
            <a:ext cx="190476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Very active, like to swim in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Feed on worms and insect larv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Females are usually larger than males because they are filled with eggs and they don’t usually have gold on under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Males are torpedo shaped and have a gold be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4267080"/>
            <a:ext cx="23623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5791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Zebrafish can hatch up to 400 or 500 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Can hatch 20 to 48 hours after spaw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Females lay eggs everyd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Embryos are first transpa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Most Zebrafish eat their 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Can live up to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251460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Research of Zebra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-51gadR5Q5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64832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A man named George Steisinger discovered that zebrafish is a great model to stu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Zebrafish were originally found in slow streams, rice paddies, and Ganges River in East India and Bur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bra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Dr. Steisinger studied zebrafish to look at human diseases and medic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Zebrafish are also good models to study vertebrate development and gene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191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In class, students can look at Zebrafish and see how they produc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We can also observe how they adapt to an environment other then their 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0:20:01Z</dcterms:created>
  <dc:creator>College of Science</dc:creator>
  <dc:description/>
  <dc:language>en-US</dc:language>
  <cp:lastModifiedBy>College of Science</cp:lastModifiedBy>
  <dcterms:modified xsi:type="dcterms:W3CDTF">2009-06-29T21:26:30Z</dcterms:modified>
  <cp:revision>6</cp:revision>
  <dc:subject/>
  <dc:title> Zebrafish </dc:title>
</cp:coreProperties>
</file>